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  <p:sldId id="279" r:id="rId35"/>
    <p:sldId id="280" r:id="rId36"/>
    <p:sldId id="281" r:id="rId37"/>
    <p:sldId id="282" r:id="rId38"/>
    <p:sldId id="283" r:id="rId39"/>
    <p:sldId id="284" r:id="rId40"/>
    <p:sldId id="285" r:id="rId41"/>
    <p:sldId id="286" r:id="rId42"/>
    <p:sldId id="287" r:id="rId43"/>
    <p:sldId id="288" r:id="rId44"/>
    <p:sldId id="289" r:id="rId45"/>
    <p:sldId id="290" r:id="rId46"/>
    <p:sldId id="291" r:id="rId47"/>
    <p:sldId id="292" r:id="rId48"/>
    <p:sldId id="293" r:id="rId49"/>
    <p:sldId id="294" r:id="rId50"/>
    <p:sldId id="295" r:id="rId51"/>
    <p:sldId id="296" r:id="rId52"/>
    <p:sldId id="297" r:id="rId53"/>
    <p:sldId id="298" r:id="rId54"/>
    <p:sldId id="299" r:id="rId55"/>
    <p:sldId id="300" r:id="rId56"/>
    <p:sldId id="301" r:id="rId57"/>
    <p:sldId id="302" r:id="rId58"/>
    <p:sldId id="303" r:id="rId59"/>
    <p:sldId id="304" r:id="rId60"/>
    <p:sldId id="305" r:id="rId61"/>
    <p:sldId id="306" r:id="rId62"/>
    <p:sldId id="307" r:id="rId63"/>
    <p:sldId id="308" r:id="rId64"/>
    <p:sldId id="309" r:id="rId65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slide" Target="slides/slide24.xml"/><Relationship Id="rId36" Type="http://schemas.openxmlformats.org/officeDocument/2006/relationships/slide" Target="slides/slide25.xml"/><Relationship Id="rId37" Type="http://schemas.openxmlformats.org/officeDocument/2006/relationships/slide" Target="slides/slide26.xml"/><Relationship Id="rId38" Type="http://schemas.openxmlformats.org/officeDocument/2006/relationships/slide" Target="slides/slide27.xml"/><Relationship Id="rId39" Type="http://schemas.openxmlformats.org/officeDocument/2006/relationships/slide" Target="slides/slide28.xml"/><Relationship Id="rId40" Type="http://schemas.openxmlformats.org/officeDocument/2006/relationships/slide" Target="slides/slide29.xml"/><Relationship Id="rId41" Type="http://schemas.openxmlformats.org/officeDocument/2006/relationships/slide" Target="slides/slide30.xml"/><Relationship Id="rId42" Type="http://schemas.openxmlformats.org/officeDocument/2006/relationships/slide" Target="slides/slide31.xml"/><Relationship Id="rId43" Type="http://schemas.openxmlformats.org/officeDocument/2006/relationships/slide" Target="slides/slide32.xml"/><Relationship Id="rId44" Type="http://schemas.openxmlformats.org/officeDocument/2006/relationships/slide" Target="slides/slide33.xml"/><Relationship Id="rId45" Type="http://schemas.openxmlformats.org/officeDocument/2006/relationships/slide" Target="slides/slide34.xml"/><Relationship Id="rId46" Type="http://schemas.openxmlformats.org/officeDocument/2006/relationships/slide" Target="slides/slide35.xml"/><Relationship Id="rId47" Type="http://schemas.openxmlformats.org/officeDocument/2006/relationships/slide" Target="slides/slide36.xml"/><Relationship Id="rId48" Type="http://schemas.openxmlformats.org/officeDocument/2006/relationships/slide" Target="slides/slide37.xml"/><Relationship Id="rId49" Type="http://schemas.openxmlformats.org/officeDocument/2006/relationships/slide" Target="slides/slide38.xml"/><Relationship Id="rId50" Type="http://schemas.openxmlformats.org/officeDocument/2006/relationships/slide" Target="slides/slide39.xml"/><Relationship Id="rId51" Type="http://schemas.openxmlformats.org/officeDocument/2006/relationships/slide" Target="slides/slide40.xml"/><Relationship Id="rId52" Type="http://schemas.openxmlformats.org/officeDocument/2006/relationships/slide" Target="slides/slide41.xml"/><Relationship Id="rId53" Type="http://schemas.openxmlformats.org/officeDocument/2006/relationships/slide" Target="slides/slide42.xml"/><Relationship Id="rId54" Type="http://schemas.openxmlformats.org/officeDocument/2006/relationships/slide" Target="slides/slide43.xml"/><Relationship Id="rId55" Type="http://schemas.openxmlformats.org/officeDocument/2006/relationships/slide" Target="slides/slide44.xml"/><Relationship Id="rId56" Type="http://schemas.openxmlformats.org/officeDocument/2006/relationships/slide" Target="slides/slide45.xml"/><Relationship Id="rId57" Type="http://schemas.openxmlformats.org/officeDocument/2006/relationships/slide" Target="slides/slide46.xml"/><Relationship Id="rId58" Type="http://schemas.openxmlformats.org/officeDocument/2006/relationships/slide" Target="slides/slide47.xml"/><Relationship Id="rId59" Type="http://schemas.openxmlformats.org/officeDocument/2006/relationships/slide" Target="slides/slide48.xml"/><Relationship Id="rId60" Type="http://schemas.openxmlformats.org/officeDocument/2006/relationships/slide" Target="slides/slide49.xml"/><Relationship Id="rId61" Type="http://schemas.openxmlformats.org/officeDocument/2006/relationships/slide" Target="slides/slide50.xml"/><Relationship Id="rId62" Type="http://schemas.openxmlformats.org/officeDocument/2006/relationships/slide" Target="slides/slide51.xml"/><Relationship Id="rId63" Type="http://schemas.openxmlformats.org/officeDocument/2006/relationships/slide" Target="slides/slide52.xml"/><Relationship Id="rId64" Type="http://schemas.openxmlformats.org/officeDocument/2006/relationships/slide" Target="slides/slide53.xml"/><Relationship Id="rId65" Type="http://schemas.openxmlformats.org/officeDocument/2006/relationships/slide" Target="slides/slide54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36ECE8-A1A6-4734-AC03-E2E0FE18474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2BB1EB-3CFA-4E0B-BBA4-4E7B4986CFB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95AB0F-EC71-4B02-9A87-041DAF68FB8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86DB1A-59FF-48B7-8E08-3E608B22269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FF686E-3A93-47A7-8F3D-B45FA7738E2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6C1392-1326-45D9-AB5A-1E258AF76E5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6FB66B-996B-4874-875F-F1F43A1E73E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BE2D45-8F9C-4569-8131-8759372612F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E85C13-63AA-42E9-B3A0-404C2DD3A75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AF4858-7001-4906-B24B-0D8BFC55495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BEA589-E014-4E96-9E1E-C5E701E96BA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B824AC-592C-4C50-9545-3F752FC81DB5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hyperlink" Target="http://www.semantic-web-grundlagen.de/" TargetMode="External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hyperlink" Target="http://www.semantic-web-grundlagen.de/" TargetMode="External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6000"/>
          </a:bodyPr>
          <a:p>
            <a:pPr marL="889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1" marL="88920" indent="-889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2" marL="88920" indent="-88920" algn="ctr">
              <a:buClr>
                <a:srgbClr val="000000"/>
              </a:buClr>
              <a:buFont typeface="Bodoni SvtyTwo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3" marL="88920" indent="-889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4" marL="88920" indent="-889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5" marL="88920" indent="-889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6" marL="88920" indent="-889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pic>
        <p:nvPicPr>
          <p:cNvPr id="2" name="Picture 3" descr=""/>
          <p:cNvPicPr/>
          <p:nvPr/>
        </p:nvPicPr>
        <p:blipFill>
          <a:blip r:embed="rId2"/>
          <a:stretch/>
        </p:blipFill>
        <p:spPr>
          <a:xfrm>
            <a:off x="5778360" y="0"/>
            <a:ext cx="1447920" cy="12351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4" descr=""/>
          <p:cNvPicPr/>
          <p:nvPr/>
        </p:nvPicPr>
        <p:blipFill>
          <a:blip r:embed="rId3"/>
          <a:srcRect l="96523" t="0" r="0" b="296"/>
          <a:stretch/>
        </p:blipFill>
        <p:spPr>
          <a:xfrm>
            <a:off x="7226280" y="0"/>
            <a:ext cx="5778360" cy="1231920"/>
          </a:xfrm>
          <a:prstGeom prst="rect">
            <a:avLst/>
          </a:prstGeom>
          <a:ln w="0">
            <a:noFill/>
          </a:ln>
        </p:spPr>
      </p:pic>
      <p:pic>
        <p:nvPicPr>
          <p:cNvPr id="4" name="Picture 5" descr=""/>
          <p:cNvPicPr/>
          <p:nvPr/>
        </p:nvPicPr>
        <p:blipFill>
          <a:blip r:embed="rId4"/>
          <a:srcRect l="0" t="0" r="95417" b="0"/>
          <a:stretch/>
        </p:blipFill>
        <p:spPr>
          <a:xfrm>
            <a:off x="-3240" y="1440"/>
            <a:ext cx="5794560" cy="1231920"/>
          </a:xfrm>
          <a:prstGeom prst="rect">
            <a:avLst/>
          </a:prstGeom>
          <a:ln w="0">
            <a:noFill/>
          </a:ln>
        </p:spPr>
      </p:pic>
      <p:pic>
        <p:nvPicPr>
          <p:cNvPr id="5" name="Picture 6" descr=""/>
          <p:cNvPicPr/>
          <p:nvPr/>
        </p:nvPicPr>
        <p:blipFill>
          <a:blip r:embed="rId5"/>
          <a:stretch/>
        </p:blipFill>
        <p:spPr>
          <a:xfrm>
            <a:off x="12476160" y="7656480"/>
            <a:ext cx="457200" cy="2019240"/>
          </a:xfrm>
          <a:prstGeom prst="rect">
            <a:avLst/>
          </a:prstGeom>
          <a:ln w="0">
            <a:noFill/>
          </a:ln>
        </p:spPr>
      </p:pic>
      <p:sp>
        <p:nvSpPr>
          <p:cNvPr id="6" name="Rectangle 8"/>
          <p:cNvSpPr/>
          <p:nvPr/>
        </p:nvSpPr>
        <p:spPr>
          <a:xfrm>
            <a:off x="317520" y="895320"/>
            <a:ext cx="1235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Gill Sans"/>
                <a:ea typeface="Gill Sans"/>
                <a:hlinkClick r:id="rId6"/>
              </a:rPr>
              <a:t>www.semantic-web-grundlagen.de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6000"/>
          </a:bodyPr>
          <a:p>
            <a:pPr marL="889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1" marL="88920" indent="-889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2" marL="88920" indent="-88920" algn="ctr">
              <a:buClr>
                <a:srgbClr val="000000"/>
              </a:buClr>
              <a:buFont typeface="Bodoni SvtyTwo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3" marL="88920" indent="-889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4" marL="88920" indent="-889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5" marL="88920" indent="-889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6" marL="88920" indent="-889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2"/>
          <a:stretch/>
        </p:blipFill>
        <p:spPr>
          <a:xfrm>
            <a:off x="5778360" y="0"/>
            <a:ext cx="1447920" cy="12351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" descr=""/>
          <p:cNvPicPr/>
          <p:nvPr/>
        </p:nvPicPr>
        <p:blipFill>
          <a:blip r:embed="rId3"/>
          <a:srcRect l="96523" t="0" r="0" b="296"/>
          <a:stretch/>
        </p:blipFill>
        <p:spPr>
          <a:xfrm>
            <a:off x="7226280" y="0"/>
            <a:ext cx="5778360" cy="12319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" descr=""/>
          <p:cNvPicPr/>
          <p:nvPr/>
        </p:nvPicPr>
        <p:blipFill>
          <a:blip r:embed="rId4"/>
          <a:srcRect l="0" t="0" r="95417" b="0"/>
          <a:stretch/>
        </p:blipFill>
        <p:spPr>
          <a:xfrm>
            <a:off x="-3240" y="1440"/>
            <a:ext cx="5794560" cy="12319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6" descr=""/>
          <p:cNvPicPr/>
          <p:nvPr/>
        </p:nvPicPr>
        <p:blipFill>
          <a:blip r:embed="rId5"/>
          <a:stretch/>
        </p:blipFill>
        <p:spPr>
          <a:xfrm>
            <a:off x="12476160" y="7656480"/>
            <a:ext cx="457200" cy="20192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8"/>
          <p:cNvSpPr/>
          <p:nvPr/>
        </p:nvSpPr>
        <p:spPr>
          <a:xfrm>
            <a:off x="317520" y="895320"/>
            <a:ext cx="1235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Gill Sans"/>
                <a:ea typeface="Gill Sans"/>
                <a:hlinkClick r:id="rId6"/>
              </a:rPr>
              <a:t>www.semantic-web-grundlagen.de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3808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28268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2" marL="1727280" indent="-571680">
              <a:spcBef>
                <a:spcPts val="2401"/>
              </a:spcBef>
              <a:buClr>
                <a:srgbClr val="000000"/>
              </a:buClr>
              <a:buSzPct val="69000"/>
              <a:buFont typeface="Helvetica Neue"/>
              <a:buChar char="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3" marL="2171880" indent="-571680">
              <a:spcBef>
                <a:spcPts val="2401"/>
              </a:spcBef>
              <a:buClr>
                <a:srgbClr val="000000"/>
              </a:buClr>
              <a:buFont typeface="Helvetica Neu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4" marL="2527200" indent="-2527200">
              <a:spcBef>
                <a:spcPts val="2401"/>
              </a:spcBef>
              <a:buClr>
                <a:srgbClr val="000000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5" marL="2527200" indent="-2527200">
              <a:spcBef>
                <a:spcPts val="2401"/>
              </a:spcBef>
              <a:buClr>
                <a:srgbClr val="000000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6" marL="2527200" indent="-2527200">
              <a:spcBef>
                <a:spcPts val="2401"/>
              </a:spcBef>
              <a:buClr>
                <a:srgbClr val="000000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-12600" y="1752480"/>
            <a:ext cx="11849040" cy="63720"/>
          </a:xfrm>
          <a:prstGeom prst="rect">
            <a:avLst/>
          </a:prstGeom>
          <a:gradFill rotWithShape="0">
            <a:gsLst>
              <a:gs pos="0">
                <a:srgbClr val="fbffff"/>
              </a:gs>
              <a:gs pos="100000">
                <a:srgbClr val="f2001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89" name="Picture 4" descr=""/>
          <p:cNvPicPr/>
          <p:nvPr/>
        </p:nvPicPr>
        <p:blipFill>
          <a:blip r:embed="rId2"/>
          <a:stretch/>
        </p:blipFill>
        <p:spPr>
          <a:xfrm rot="5400000">
            <a:off x="542880" y="1393560"/>
            <a:ext cx="355320" cy="12067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5" descr=""/>
          <p:cNvPicPr/>
          <p:nvPr/>
        </p:nvPicPr>
        <p:blipFill>
          <a:blip r:embed="rId3"/>
          <a:stretch/>
        </p:blipFill>
        <p:spPr>
          <a:xfrm>
            <a:off x="0" y="546120"/>
            <a:ext cx="1447920" cy="12351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6" descr=""/>
          <p:cNvPicPr/>
          <p:nvPr/>
        </p:nvPicPr>
        <p:blipFill>
          <a:blip r:embed="rId4"/>
          <a:srcRect l="0" t="0" r="0" b="89741"/>
          <a:stretch/>
        </p:blipFill>
        <p:spPr>
          <a:xfrm>
            <a:off x="0" y="-63360"/>
            <a:ext cx="1447920" cy="60948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3"/>
          <p:cNvSpPr>
            <a:spLocks noGrp="1"/>
          </p:cNvSpPr>
          <p:nvPr>
            <p:ph type="sldNum" idx="1"/>
          </p:nvPr>
        </p:nvSpPr>
        <p:spPr>
          <a:xfrm>
            <a:off x="1263600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Gill Sans"/>
                <a:ea typeface="Gill San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C98B4-1615-43CC-93C5-F723A27BFAF5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body"/>
          </p:nvPr>
        </p:nvSpPr>
        <p:spPr>
          <a:xfrm>
            <a:off x="635040" y="478800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marL="2743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1" marL="274320" indent="-2743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2" marL="274320" indent="-274320" algn="ctr">
              <a:buClr>
                <a:srgbClr val="000000"/>
              </a:buClr>
              <a:buFont typeface="Bodoni SvtyTwo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3" marL="274320" indent="-2743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4" marL="274320" indent="-2743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5" marL="274320" indent="-2743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6" marL="274320" indent="-2743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70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body"/>
          </p:nvPr>
        </p:nvSpPr>
        <p:spPr>
          <a:xfrm>
            <a:off x="635040" y="478800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marL="2743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1" marL="274320" indent="-2743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2" marL="274320" indent="-274320" algn="ctr">
              <a:buClr>
                <a:srgbClr val="000000"/>
              </a:buClr>
              <a:buFont typeface="Bodoni SvtyTwo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3" marL="274320" indent="-2743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4" marL="274320" indent="-2743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5" marL="274320" indent="-2743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6" marL="274320" indent="-2743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70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585360" indent="-37980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  <a:p>
            <a:pPr lvl="1" marL="927720" indent="-37980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  <a:p>
            <a:pPr lvl="2" marL="1270080" indent="-38016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  <a:p>
            <a:pPr lvl="3" marL="1612080" indent="-37980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  <a:p>
            <a:pPr lvl="4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  <a:p>
            <a:pPr lvl="5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  <a:p>
            <a:pPr lvl="6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hyperlink" Target="http://www.semantic-web-grundlagen.de/index.php/Kapitel_6" TargetMode="External"/><Relationship Id="rId4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hyperlink" Target="http://www.cs.man.ac.uk/~horrocks/FaCT/" TargetMode="External"/><Relationship Id="rId2" Type="http://schemas.openxmlformats.org/officeDocument/2006/relationships/hyperlink" Target="http://owl.man.ac.uk/factplusplus/" TargetMode="External"/><Relationship Id="rId3" Type="http://schemas.openxmlformats.org/officeDocument/2006/relationships/hyperlink" Target="http://www.mindswap.org/2003/pellet/index.shtml" TargetMode="External"/><Relationship Id="rId4" Type="http://schemas.openxmlformats.org/officeDocument/2006/relationships/hyperlink" Target="http://www.sts.tu-harburg.de/~r.f.moeller/racer/" TargetMode="External"/><Relationship Id="rId5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1"/>
          <p:cNvSpPr/>
          <p:nvPr/>
        </p:nvSpPr>
        <p:spPr>
          <a:xfrm>
            <a:off x="127008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  <a:ea typeface="Bodoni SvtyTwo SC ITC TT-Book"/>
              </a:rPr>
              <a:t>Semantic Web Technologies I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1" name="Rectangle 2"/>
          <p:cNvSpPr/>
          <p:nvPr/>
        </p:nvSpPr>
        <p:spPr>
          <a:xfrm>
            <a:off x="1270080" y="4940280"/>
            <a:ext cx="10464840" cy="33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  <a:ea typeface="Bodoni SvtyTwo ITC TT-Book"/>
              </a:rPr>
              <a:t>Lehrveranstaltung im WS09/10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  <a:ea typeface="Bodoni SvtyTwo ITC TT-Book"/>
              </a:rPr>
              <a:t>M.Sc. Markus Krötzsch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  <a:ea typeface="Bodoni SvtyTwo ITC TT-Book"/>
              </a:rPr>
              <a:t>Dr. Sebastian Rudolph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10FD5-CF1E-4B83-94F1-1A69707FDD4C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LC - Subklassenbeziehung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133280" y="2489040"/>
            <a:ext cx="12077640" cy="736632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382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Professor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v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Fakultaetsmitglied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„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Jeder Professor ist ein Fakultätsmitglied.“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entspricht (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8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x)(Professor(x)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!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Fakultaetsmitglied(x)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entspricht owl:subClassOf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Professor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´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Fakultaetsmitglied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„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ie Fakultätsmitglieder sind genau die Professoren.“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entspricht (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8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x)(Professor(x)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$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Fakultaetsmitglied(x)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entspricht owl:equivalentClass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32" name="Text Box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5C0EC-E1D4-4E73-97F0-E14240378234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cover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81B09-6032-461B-B72C-1FBA43E11002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LC - komplexe Klass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977760" y="2387160"/>
            <a:ext cx="1104912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3430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Konjunktion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entspricht </a:t>
            </a:r>
            <a:r>
              <a:rPr b="0" lang="en-US" sz="3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owl:intersectionOf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isjunktion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t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entspricht </a:t>
            </a:r>
            <a:r>
              <a:rPr b="0" lang="en-US" sz="3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owl:unionOf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Negation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           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entspricht </a:t>
            </a:r>
            <a:r>
              <a:rPr b="0" lang="en-US" sz="3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owl:complementOf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Beispiel: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Professor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v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(Person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Unversitaetsangehoeriger)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t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(Person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oktorand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8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x)(Professor(x)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!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((Person(x)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Æ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Universitaetsangehoeriger(x)) 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Ç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(Person(x)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Æ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oktorand(x))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85827-640B-41B6-BF6C-35E043C678F4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LC - Quantoren auf Roll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65280" y="2387160"/>
            <a:ext cx="1198224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382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Pruefung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v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8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hatPruefer.Professor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„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Jede Prüfung hat nur Professoren als Prüfer.“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8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x)(Pruefung(x)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!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8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y)(hatPruefer(x,y)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!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Professor(y))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entspricht </a:t>
            </a:r>
            <a:r>
              <a:rPr b="0" lang="en-US" sz="3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owl:allValuesFrom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Pruefung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v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9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hatPruefer.Person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„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Jede Prüfung hat mindestens einen Prüfer.“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8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x)(Pruefung(x)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!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9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y)(hatPruefer(x,y)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Æ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Person(y))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entspricht </a:t>
            </a:r>
            <a:r>
              <a:rPr b="0" lang="en-US" sz="3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owl:someValuesFrom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8E09A-1C63-4901-B5F0-88F903B90C97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Weitere OWL-Konstrukte in ALC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977760" y="2387160"/>
            <a:ext cx="1104912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owl:nothing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? ´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C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owl:thing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&gt; ´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C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t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owl:disjointWith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C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D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´ 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?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(gleichbedeutend:) 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C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v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range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&gt; v 8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R.C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domain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9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R.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&gt; v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C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19D6B-DA47-4804-9044-4E1ECCFA6834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LC - Formale Syntax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977760" y="2387160"/>
            <a:ext cx="1146672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Folgende Syntaxregeln erzeugen Klassen in </a:t>
            </a:r>
            <a:r>
              <a:rPr b="0" lang="en-US" sz="34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ALC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. Dabei ist A eine atomare Klasse und R eine Rolle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C,D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! 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A |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&gt;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|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?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|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C | C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D | C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t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D |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8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R.C |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9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R.C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Eine </a:t>
            </a:r>
            <a:r>
              <a:rPr b="0" lang="en-US" sz="34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ALC</a:t>
            </a:r>
            <a:r>
              <a:rPr b="0" i="1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-TBox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 besteht aus Aussagen der Form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C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v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D und C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´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D, wobei C, D Klassen sind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Eine </a:t>
            </a:r>
            <a:r>
              <a:rPr b="0" lang="en-US" sz="34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ALC</a:t>
            </a:r>
            <a:r>
              <a:rPr b="0" i="1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-ABox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besteht aus Aussagen der Form C(a) und R(a,b), wobei C eine komplexe Klasse, R eine Rolle und a,b Individuen sind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Eine </a:t>
            </a:r>
            <a:r>
              <a:rPr b="0" lang="en-US" sz="34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ALC</a:t>
            </a:r>
            <a:r>
              <a:rPr b="0" i="1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-Wissensbasis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besteht aus einer ABox und einer TBox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18281-9EB5-4602-A686-1193914FD871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LC - Semantik (Interpretationen)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77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Helvetica Neue"/>
              </a:rPr>
              <a:t>wir definieren modelltheoretische Semantik für </a:t>
            </a:r>
            <a:r>
              <a:rPr b="0" lang="en-US" sz="38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ALC </a:t>
            </a:r>
            <a:r>
              <a:rPr b="0" lang="en-US" sz="3800" spc="-1" strike="noStrike">
                <a:solidFill>
                  <a:srgbClr val="000000"/>
                </a:solidFill>
                <a:latin typeface="Helvetica Neue"/>
              </a:rPr>
              <a:t>(d.h. Folgerung wird über Interpretationen definiert)</a:t>
            </a:r>
            <a:endParaRPr b="0" lang="en-US" sz="38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300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Helvetica Neue"/>
              </a:rPr>
              <a:t>eine Interpretation </a:t>
            </a:r>
            <a:r>
              <a:rPr b="0" lang="en-US" sz="38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r>
              <a:rPr b="0" lang="en-US" sz="3800" spc="-1" strike="noStrike">
                <a:solidFill>
                  <a:srgbClr val="000000"/>
                </a:solidFill>
                <a:latin typeface="Helvetica Neue"/>
              </a:rPr>
              <a:t>=(</a:t>
            </a:r>
            <a:r>
              <a:rPr b="0" lang="en-US" sz="3800" spc="-1" strike="noStrike">
                <a:solidFill>
                  <a:srgbClr val="000000"/>
                </a:solidFill>
                <a:latin typeface="Symbol"/>
                <a:ea typeface="Symbol"/>
              </a:rPr>
              <a:t>Δ</a:t>
            </a:r>
            <a:r>
              <a:rPr b="0" lang="en-US" sz="38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r>
              <a:rPr b="0" lang="en-US" sz="3800" spc="-1" strike="noStrike">
                <a:solidFill>
                  <a:srgbClr val="000000"/>
                </a:solidFill>
                <a:latin typeface="Helvetica Neue"/>
              </a:rPr>
              <a:t>,</a:t>
            </a:r>
            <a:r>
              <a:rPr b="0" lang="en-US" sz="3800" spc="-1" strike="noStrike" baseline="32000">
                <a:solidFill>
                  <a:srgbClr val="000000"/>
                </a:solidFill>
                <a:latin typeface="Helvetica Neue"/>
              </a:rPr>
              <a:t>.</a:t>
            </a:r>
            <a:r>
              <a:rPr b="0" lang="en-US" sz="38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r>
              <a:rPr b="0" lang="en-US" sz="3800" spc="-1" strike="noStrike">
                <a:solidFill>
                  <a:srgbClr val="000000"/>
                </a:solidFill>
                <a:latin typeface="Helvetica Neue"/>
              </a:rPr>
              <a:t>) besteht aus</a:t>
            </a:r>
            <a:endParaRPr b="0" lang="en-US" sz="38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300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einer Menge </a:t>
            </a:r>
            <a:r>
              <a:rPr b="0" lang="en-US" sz="4200" spc="-1" strike="noStrike">
                <a:solidFill>
                  <a:srgbClr val="000000"/>
                </a:solidFill>
                <a:latin typeface="Symbol"/>
                <a:ea typeface="Symbol"/>
              </a:rPr>
              <a:t>Δ</a:t>
            </a:r>
            <a:r>
              <a:rPr b="0" lang="en-US" sz="42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, genannt Domäne und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300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einer Funktion </a:t>
            </a:r>
            <a:r>
              <a:rPr b="0" lang="en-US" sz="4200" spc="-1" strike="noStrike" baseline="32000">
                <a:solidFill>
                  <a:srgbClr val="000000"/>
                </a:solidFill>
                <a:latin typeface="Helvetica Neue"/>
              </a:rPr>
              <a:t>.</a:t>
            </a:r>
            <a:r>
              <a:rPr b="0" lang="en-US" sz="42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, die abbildet von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2" marL="1778040" indent="-571680">
              <a:spcBef>
                <a:spcPts val="300"/>
              </a:spcBef>
              <a:buClr>
                <a:srgbClr val="000000"/>
              </a:buClr>
              <a:buSzPct val="69000"/>
              <a:buFont typeface="Helvetica Neue"/>
              <a:buChar char="✦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Helvetica Neue"/>
              </a:rPr>
              <a:t>Individuennamen a auf Domänenelemente 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Helvetica Neue"/>
              </a:rPr>
              <a:t>a</a:t>
            </a:r>
            <a:r>
              <a:rPr b="0" lang="en-US" sz="30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 </a:t>
            </a:r>
            <a:r>
              <a:rPr b="0" lang="en-US" sz="3000" spc="-1" strike="noStrike">
                <a:solidFill>
                  <a:srgbClr val="000000"/>
                </a:solidFill>
                <a:latin typeface="Helvetica Neue"/>
                <a:ea typeface="Apple Symbols"/>
              </a:rPr>
              <a:t>∈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Δ</a:t>
            </a:r>
            <a:r>
              <a:rPr b="0" lang="en-US" sz="30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lvl="2" marL="1778040" indent="-571680">
              <a:spcBef>
                <a:spcPts val="300"/>
              </a:spcBef>
              <a:buClr>
                <a:srgbClr val="000000"/>
              </a:buClr>
              <a:buSzPct val="69000"/>
              <a:buFont typeface="Helvetica Neue"/>
              <a:buChar char="✦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Helvetica Neue"/>
              </a:rPr>
              <a:t>Klassennamen C auf Mengen von Domänenelementen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Helvetica Neue"/>
              </a:rPr>
              <a:t>C</a:t>
            </a:r>
            <a:r>
              <a:rPr b="0" lang="en-US" sz="30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 </a:t>
            </a:r>
            <a:r>
              <a:rPr b="0" lang="en-US" sz="3000" spc="-1" strike="noStrike">
                <a:solidFill>
                  <a:srgbClr val="000000"/>
                </a:solidFill>
                <a:latin typeface="Helvetica Neue"/>
                <a:ea typeface="Apple Symbols"/>
              </a:rPr>
              <a:t>⊆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Δ</a:t>
            </a:r>
            <a:r>
              <a:rPr b="0" lang="en-US" sz="30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lvl="2" marL="1778040" indent="-571680">
              <a:spcBef>
                <a:spcPts val="300"/>
              </a:spcBef>
              <a:buClr>
                <a:srgbClr val="000000"/>
              </a:buClr>
              <a:buSzPct val="69000"/>
              <a:buFont typeface="Helvetica Neue"/>
              <a:buChar char="✦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Helvetica Neue"/>
              </a:rPr>
              <a:t>Rollennamen R auf Mengen von Paaren von Domänenelementen R</a:t>
            </a:r>
            <a:r>
              <a:rPr b="0" lang="en-US" sz="30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 </a:t>
            </a:r>
            <a:r>
              <a:rPr b="0" lang="en-US" sz="3000" spc="-1" strike="noStrike">
                <a:solidFill>
                  <a:srgbClr val="000000"/>
                </a:solidFill>
                <a:latin typeface="Helvetica Neue"/>
                <a:ea typeface="Apple Symbols"/>
              </a:rPr>
              <a:t>⊆ </a:t>
            </a:r>
            <a:r>
              <a:rPr b="0" lang="en-US" sz="4400" spc="-1" strike="noStrike">
                <a:solidFill>
                  <a:srgbClr val="000000"/>
                </a:solidFill>
                <a:latin typeface="Helvetica Neue"/>
                <a:ea typeface="Apple Symbols"/>
              </a:rPr>
              <a:t>Δ</a:t>
            </a:r>
            <a:r>
              <a:rPr b="0" lang="en-US" sz="30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Helvetica Neue"/>
                <a:ea typeface="Lucida Grande"/>
              </a:rPr>
              <a:t> × Δ</a:t>
            </a:r>
            <a:r>
              <a:rPr b="0" lang="en-US" sz="30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EF315-E833-49C9-8199-4D950B5E0473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chematisch: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50" name="Rectangle 2"/>
          <p:cNvSpPr/>
          <p:nvPr/>
        </p:nvSpPr>
        <p:spPr>
          <a:xfrm>
            <a:off x="1536840" y="241200"/>
            <a:ext cx="11277360" cy="15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  <a:ea typeface="Bodoni SvtyTwo SC ITC TT-Book"/>
              </a:rPr>
              <a:t>ALC - Semantik (Interpretationen)</a:t>
            </a: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451" name=""/>
          <p:cNvGraphicFramePr/>
          <p:nvPr/>
        </p:nvGraphicFramePr>
        <p:xfrm>
          <a:off x="1689120" y="3048120"/>
          <a:ext cx="9613800" cy="1143000"/>
        </p:xfrm>
        <a:graphic>
          <a:graphicData uri="http://schemas.openxmlformats.org/drawingml/2006/table">
            <a:tbl>
              <a:tblPr/>
              <a:tblGrid>
                <a:gridCol w="3203640"/>
                <a:gridCol w="3205080"/>
                <a:gridCol w="3205080"/>
              </a:tblGrid>
              <a:tr h="15642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Individuennamen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            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...a..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Klassennamen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...C..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Rollennamen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    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...R..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452" name="Gruppierung 52"/>
          <p:cNvGrpSpPr/>
          <p:nvPr/>
        </p:nvGrpSpPr>
        <p:grpSpPr>
          <a:xfrm>
            <a:off x="3325680" y="3962520"/>
            <a:ext cx="6377040" cy="3479760"/>
            <a:chOff x="3325680" y="3962520"/>
            <a:chExt cx="6377040" cy="3479760"/>
          </a:xfrm>
        </p:grpSpPr>
        <p:sp>
          <p:nvSpPr>
            <p:cNvPr id="453" name="AutoShape 2"/>
            <p:cNvSpPr/>
            <p:nvPr/>
          </p:nvSpPr>
          <p:spPr>
            <a:xfrm>
              <a:off x="3325680" y="4211640"/>
              <a:ext cx="6301080" cy="1224000"/>
            </a:xfrm>
            <a:prstGeom prst="downArrow">
              <a:avLst>
                <a:gd name="adj1" fmla="val 74926"/>
                <a:gd name="adj2" fmla="val 70185"/>
              </a:avLst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pic>
          <p:nvPicPr>
            <p:cNvPr id="454" name="Bild 37" descr="DLinter.eps"/>
            <p:cNvPicPr/>
            <p:nvPr/>
          </p:nvPicPr>
          <p:blipFill>
            <a:blip r:embed="rId1"/>
            <a:stretch/>
          </p:blipFill>
          <p:spPr>
            <a:xfrm>
              <a:off x="3841920" y="4851360"/>
              <a:ext cx="4665600" cy="259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5" name="Text Box 50"/>
            <p:cNvSpPr/>
            <p:nvPr/>
          </p:nvSpPr>
          <p:spPr>
            <a:xfrm>
              <a:off x="5632200" y="3962520"/>
              <a:ext cx="5968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Gill San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800" spc="-1" strike="noStrike">
                  <a:solidFill>
                    <a:srgbClr val="000000"/>
                  </a:solidFill>
                  <a:latin typeface="Gill Sans"/>
                </a:rPr>
                <a:t>.</a:t>
              </a:r>
              <a:r>
                <a:rPr b="0" lang="de-DE" sz="2800" spc="-1" strike="noStrike">
                  <a:solidFill>
                    <a:srgbClr val="000000"/>
                  </a:solidFill>
                  <a:latin typeface="cmbsy10"/>
                </a:rPr>
                <a:t>I </a:t>
              </a:r>
              <a:endParaRPr b="0" lang="en-US" sz="28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56" name="Rechteck 39"/>
            <p:cNvSpPr/>
            <p:nvPr/>
          </p:nvSpPr>
          <p:spPr>
            <a:xfrm>
              <a:off x="4669920" y="5572800"/>
              <a:ext cx="439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DE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r>
                <a:rPr b="1" lang="de-DE" sz="2800" spc="-1" strike="noStrike" baseline="30000">
                  <a:solidFill>
                    <a:srgbClr val="000000"/>
                  </a:solidFill>
                  <a:latin typeface="cmbsy10"/>
                </a:rPr>
                <a:t>I</a:t>
              </a:r>
              <a:endParaRPr b="0" lang="en-US" sz="28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57" name="Rechteck 40"/>
            <p:cNvSpPr/>
            <p:nvPr/>
          </p:nvSpPr>
          <p:spPr>
            <a:xfrm>
              <a:off x="6218280" y="5537160"/>
              <a:ext cx="497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DE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</a:t>
              </a:r>
              <a:r>
                <a:rPr b="1" lang="de-DE" sz="2800" spc="-1" strike="noStrike" baseline="30000">
                  <a:solidFill>
                    <a:srgbClr val="000000"/>
                  </a:solidFill>
                  <a:latin typeface="cmbsy10"/>
                </a:rPr>
                <a:t>I</a:t>
              </a:r>
              <a:endParaRPr b="0" lang="en-US" sz="28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58" name="Rechteck 41"/>
            <p:cNvSpPr/>
            <p:nvPr/>
          </p:nvSpPr>
          <p:spPr>
            <a:xfrm>
              <a:off x="7588440" y="6690600"/>
              <a:ext cx="477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DE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</a:t>
              </a:r>
              <a:r>
                <a:rPr b="1" lang="de-DE" sz="2800" spc="-1" strike="noStrike" baseline="30000">
                  <a:solidFill>
                    <a:srgbClr val="000000"/>
                  </a:solidFill>
                  <a:latin typeface="cmbsy10"/>
                </a:rPr>
                <a:t>I</a:t>
              </a:r>
              <a:endParaRPr b="0" lang="en-US" sz="28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59" name="Rechteck 42"/>
            <p:cNvSpPr/>
            <p:nvPr/>
          </p:nvSpPr>
          <p:spPr>
            <a:xfrm>
              <a:off x="5221800" y="4838760"/>
              <a:ext cx="5403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4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Δ</a:t>
              </a:r>
              <a:endParaRPr b="0" lang="en-US" sz="4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60" name="Oval 16"/>
            <p:cNvSpPr/>
            <p:nvPr/>
          </p:nvSpPr>
          <p:spPr>
            <a:xfrm>
              <a:off x="3876480" y="4884840"/>
              <a:ext cx="4157640" cy="1814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61" name="Oval 20"/>
            <p:cNvSpPr/>
            <p:nvPr/>
          </p:nvSpPr>
          <p:spPr>
            <a:xfrm>
              <a:off x="5586120" y="5400720"/>
              <a:ext cx="1727280" cy="9064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62" name="Line 2"/>
            <p:cNvSpPr/>
            <p:nvPr/>
          </p:nvSpPr>
          <p:spPr>
            <a:xfrm>
              <a:off x="3401640" y="4470480"/>
              <a:ext cx="6301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63" name="AutoShape 29"/>
            <p:cNvSpPr/>
            <p:nvPr/>
          </p:nvSpPr>
          <p:spPr>
            <a:xfrm>
              <a:off x="4240080" y="4140000"/>
              <a:ext cx="649080" cy="1625400"/>
            </a:xfrm>
            <a:prstGeom prst="downArrow">
              <a:avLst>
                <a:gd name="adj1" fmla="val 50000"/>
                <a:gd name="adj2" fmla="val 52691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64" name="Rechteck 47"/>
            <p:cNvSpPr/>
            <p:nvPr/>
          </p:nvSpPr>
          <p:spPr>
            <a:xfrm>
              <a:off x="4387320" y="4465800"/>
              <a:ext cx="351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de-DE" sz="24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65" name="AutoShape 30"/>
            <p:cNvSpPr/>
            <p:nvPr/>
          </p:nvSpPr>
          <p:spPr>
            <a:xfrm>
              <a:off x="6221160" y="4140000"/>
              <a:ext cx="649080" cy="1262160"/>
            </a:xfrm>
            <a:prstGeom prst="downArrow">
              <a:avLst>
                <a:gd name="adj1" fmla="val 50000"/>
                <a:gd name="adj2" fmla="val 52709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66" name="Rechteck 49"/>
            <p:cNvSpPr/>
            <p:nvPr/>
          </p:nvSpPr>
          <p:spPr>
            <a:xfrm>
              <a:off x="6347520" y="4470480"/>
              <a:ext cx="411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de-DE" sz="24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67" name="AutoShape 30"/>
            <p:cNvSpPr/>
            <p:nvPr/>
          </p:nvSpPr>
          <p:spPr>
            <a:xfrm>
              <a:off x="8113680" y="4140000"/>
              <a:ext cx="649080" cy="2133720"/>
            </a:xfrm>
            <a:prstGeom prst="downArrow">
              <a:avLst>
                <a:gd name="adj1" fmla="val 50000"/>
                <a:gd name="adj2" fmla="val 52703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68" name="Rechteck 51"/>
            <p:cNvSpPr/>
            <p:nvPr/>
          </p:nvSpPr>
          <p:spPr>
            <a:xfrm>
              <a:off x="8242920" y="4470480"/>
              <a:ext cx="411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de-DE" sz="24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</p:spTree>
  </p:cSld>
  <p:transition spd="med">
    <p:cover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40BEC-A306-461B-B590-66B75F1364B2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LC-Semantik (komplexe Klassen)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6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Helvetica Neue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Helvetica Neue"/>
              </a:rPr>
              <a:t>wird auf komplexe Klassen erweitert:</a:t>
            </a:r>
            <a:endParaRPr b="0" lang="en-US" sz="40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&gt;</a:t>
            </a:r>
            <a:r>
              <a:rPr b="0" lang="en-US" sz="36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∆</a:t>
            </a:r>
            <a:r>
              <a:rPr b="0" lang="en-US" sz="36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?</a:t>
            </a:r>
            <a:r>
              <a:rPr b="0" lang="en-US" sz="36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pple Symbols"/>
              </a:rPr>
              <a:t>∅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C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D)</a:t>
            </a:r>
            <a:r>
              <a:rPr b="0" lang="en-US" sz="36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C</a:t>
            </a:r>
            <a:r>
              <a:rPr b="0" lang="en-US" sz="36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∩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D</a:t>
            </a:r>
            <a:r>
              <a:rPr b="0" lang="en-US" sz="36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 (C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D)</a:t>
            </a:r>
            <a:r>
              <a:rPr b="0" lang="en-US" sz="36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C</a:t>
            </a:r>
            <a:r>
              <a:rPr b="0" lang="en-US" sz="36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pple Symbols"/>
              </a:rPr>
              <a:t>∪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D</a:t>
            </a:r>
            <a:r>
              <a:rPr b="0" lang="en-US" sz="36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)</a:t>
            </a:r>
            <a:r>
              <a:rPr b="0" lang="en-US" sz="36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∆</a:t>
            </a:r>
            <a:r>
              <a:rPr b="0" lang="en-US" sz="36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\ C</a:t>
            </a:r>
            <a:r>
              <a:rPr b="0" lang="en-US" sz="36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8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.C = { x |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8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pple Symbols"/>
              </a:rPr>
              <a:t>(x,y) ∈ R</a:t>
            </a:r>
            <a:r>
              <a:rPr b="0" lang="en-US" sz="36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pple Symbols"/>
              </a:rPr>
              <a:t> → y ∈ C</a:t>
            </a:r>
            <a:r>
              <a:rPr b="0" lang="en-US" sz="36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9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.C = { x |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9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pple Symbols"/>
              </a:rPr>
              <a:t>(x,y) ∈ R</a:t>
            </a:r>
            <a:r>
              <a:rPr b="0" lang="en-US" sz="36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pple Symbols"/>
              </a:rPr>
              <a:t> mit y ∈ C</a:t>
            </a:r>
            <a:r>
              <a:rPr b="0" lang="en-US" sz="36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6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Helvetica Neue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Helvetica Neue"/>
              </a:rPr>
              <a:t>...und schließlich auf Axiome:</a:t>
            </a:r>
            <a:endParaRPr b="0" lang="en-US" sz="40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6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C(a)     gilt, wenn a</a:t>
            </a:r>
            <a:r>
              <a:rPr b="0" lang="en-US" sz="36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Helvetica Neue"/>
                <a:ea typeface="Apple Symbols"/>
              </a:rPr>
              <a:t> ∈ C</a:t>
            </a:r>
            <a:r>
              <a:rPr b="0" lang="en-US" sz="36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6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R(a,b)  gilt, wenn (a</a:t>
            </a:r>
            <a:r>
              <a:rPr b="0" lang="en-US" sz="36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,b</a:t>
            </a:r>
            <a:r>
              <a:rPr b="0" lang="en-US" sz="36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Helvetica Neue"/>
                <a:ea typeface="Apple Symbols"/>
              </a:rPr>
              <a:t>) ∈ R</a:t>
            </a:r>
            <a:r>
              <a:rPr b="0" lang="en-US" sz="36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6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 D  gilt, wen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n-US" sz="36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pple Symbols"/>
              </a:rPr>
              <a:t>⊆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D</a:t>
            </a:r>
            <a:r>
              <a:rPr b="0" lang="en-US" sz="36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6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´</a:t>
            </a: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 D  gilt, wen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n-US" sz="36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D</a:t>
            </a:r>
            <a:r>
              <a:rPr b="0" lang="en-US" sz="36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3AEB7-4221-4878-91A6-C513833ECF5B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/>
          </p:nvPr>
        </p:nvSpPr>
        <p:spPr>
          <a:xfrm>
            <a:off x="977760" y="2387160"/>
            <a:ext cx="593568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544680" indent="-48744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Übersetzung von TBox-Aussagen in die Prädikatenlogik mittels der Abbildung </a:t>
            </a:r>
            <a:r>
              <a:rPr b="0" lang="en-US" sz="3400" spc="-1" strike="noStrike">
                <a:solidFill>
                  <a:srgbClr val="000000"/>
                </a:solidFill>
                <a:latin typeface="Symbol"/>
                <a:ea typeface="Symbol"/>
              </a:rPr>
              <a:t>π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(rechts)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abei sind C,D komplexe Klassen, R eine Rolle und A eine atomare Klasse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474" name="Picture 2" descr=""/>
          <p:cNvPicPr/>
          <p:nvPr/>
        </p:nvPicPr>
        <p:blipFill>
          <a:blip r:embed="rId1"/>
          <a:stretch/>
        </p:blipFill>
        <p:spPr>
          <a:xfrm>
            <a:off x="6923160" y="2095560"/>
            <a:ext cx="5511600" cy="7066080"/>
          </a:xfrm>
          <a:prstGeom prst="rect">
            <a:avLst/>
          </a:prstGeom>
          <a:ln w="0">
            <a:noFill/>
          </a:ln>
        </p:spPr>
      </p:pic>
      <p:sp>
        <p:nvSpPr>
          <p:cNvPr id="475" name="Rectangle 3"/>
          <p:cNvSpPr/>
          <p:nvPr/>
        </p:nvSpPr>
        <p:spPr>
          <a:xfrm>
            <a:off x="8900640" y="6191280"/>
            <a:ext cx="621720" cy="335520"/>
          </a:xfrm>
          <a:prstGeom prst="rect">
            <a:avLst/>
          </a:prstGeom>
          <a:solidFill>
            <a:srgbClr val="ebe8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57960" tIns="0" bIns="0" anchor="t">
            <a:spAutoFit/>
          </a:bodyPr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mmib8"/>
                <a:ea typeface="cmmib8"/>
              </a:rPr>
              <a:t>A</a:t>
            </a:r>
            <a:r>
              <a:rPr b="0" lang="en-US" sz="2200" spc="-1" strike="noStrike">
                <a:solidFill>
                  <a:srgbClr val="595959"/>
                </a:solidFill>
                <a:latin typeface="Arial"/>
                <a:ea typeface="Arial"/>
              </a:rPr>
              <a:t>(</a:t>
            </a:r>
            <a:r>
              <a:rPr b="0" lang="en-US" sz="2200" spc="-1" strike="noStrike">
                <a:solidFill>
                  <a:srgbClr val="595959"/>
                </a:solidFill>
                <a:latin typeface="cmmib8"/>
                <a:ea typeface="cmmib8"/>
              </a:rPr>
              <a:t>y</a:t>
            </a:r>
            <a:r>
              <a:rPr b="0" lang="en-US" sz="2200" spc="-1" strike="noStrike">
                <a:solidFill>
                  <a:srgbClr val="595959"/>
                </a:solidFill>
                <a:latin typeface="Arial"/>
                <a:ea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6" name="Rectangle 4"/>
          <p:cNvSpPr/>
          <p:nvPr/>
        </p:nvSpPr>
        <p:spPr>
          <a:xfrm>
            <a:off x="1536840" y="241200"/>
            <a:ext cx="11277360" cy="15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  <a:ea typeface="Bodoni SvtyTwo SC ITC TT-Book"/>
              </a:rPr>
              <a:t>ALC - alternative Semantik</a:t>
            </a: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cover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2D24B-0F41-4DEB-85EB-5D32F8189033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DL-Wissensbas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971280" y="2214360"/>
            <a:ext cx="11048760" cy="75387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L Wissensbasen bestehen aus 2 Teilen: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Box: Axiome, die die Struktur der zu modellierenden Domäne beschreiben (konzeptionelles Schema):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2" marL="118260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9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appyFathe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≡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Man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∃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asChild.Female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…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2" marL="118260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9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lephant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  <a:ea typeface="cmsy10"/>
              </a:rPr>
              <a:t>v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imal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Large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Grey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2" marL="118260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9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ransitive(hasAncestor)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2" marL="1182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box:  Axiome, die konkrete Situationen (Daten) beschreiben: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2" marL="118260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9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appyFather(John)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2" marL="118260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9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asChild(John, Mary)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2" name=""/>
          <p:cNvGraphicFramePr/>
          <p:nvPr/>
        </p:nvGraphicFramePr>
        <p:xfrm>
          <a:off x="687240" y="3683160"/>
          <a:ext cx="6070680" cy="5483160"/>
        </p:xfrm>
        <a:graphic>
          <a:graphicData uri="http://schemas.openxmlformats.org/drawingml/2006/table">
            <a:tbl>
              <a:tblPr/>
              <a:tblGrid>
                <a:gridCol w="6070680"/>
              </a:tblGrid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inleitung und XML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inführung in RDF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DF Schema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gik - Grundlagen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mantik von RDF(S)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WL - Syntax und Intuition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WL - Semantik und Reasoning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WL 2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PARQL - Syntax und Intuition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onjunktive Anfragen / Einführung Regelsprachen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geln für OWL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tology Engineering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mantic Web - Anwendungen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203040" y="1523520"/>
            <a:ext cx="12636720" cy="1359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OWL - Semantik &amp; Reasoning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1269720" y="2882520"/>
            <a:ext cx="10464840" cy="80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M.Sc. Markus Krötzsch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395" name="Rectangle 3"/>
          <p:cNvSpPr/>
          <p:nvPr/>
        </p:nvSpPr>
        <p:spPr>
          <a:xfrm>
            <a:off x="7346880" y="3309840"/>
            <a:ext cx="4622760" cy="389160"/>
          </a:xfrm>
          <a:prstGeom prst="rect">
            <a:avLst/>
          </a:prstGeom>
          <a:solidFill>
            <a:srgbClr val="00cc99"/>
          </a:solidFill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6" name="Rectangle 4"/>
          <p:cNvSpPr/>
          <p:nvPr/>
        </p:nvSpPr>
        <p:spPr>
          <a:xfrm>
            <a:off x="7345440" y="3325680"/>
            <a:ext cx="462600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3120" tIns="38160" bIns="38160" anchor="b">
            <a:noAutofit/>
          </a:bodyPr>
          <a:p>
            <a:pPr algn="ctr">
              <a:lnSpc>
                <a:spcPct val="100000"/>
              </a:lnSpc>
              <a:spcBef>
                <a:spcPts val="1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63636"/>
                </a:solidFill>
                <a:latin typeface="Helvetica Neue"/>
                <a:ea typeface="Helvetica Neue"/>
              </a:rPr>
              <a:t>Semantic Web Architecture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7" name="Rectangle 5"/>
          <p:cNvSpPr/>
          <p:nvPr/>
        </p:nvSpPr>
        <p:spPr>
          <a:xfrm>
            <a:off x="7346880" y="3676680"/>
            <a:ext cx="4632480" cy="57164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398" name="Picture 6" descr=""/>
          <p:cNvPicPr/>
          <p:nvPr/>
        </p:nvPicPr>
        <p:blipFill>
          <a:blip r:embed="rId1"/>
          <a:stretch/>
        </p:blipFill>
        <p:spPr>
          <a:xfrm>
            <a:off x="7532640" y="3906720"/>
            <a:ext cx="4280040" cy="4430880"/>
          </a:xfrm>
          <a:prstGeom prst="rect">
            <a:avLst/>
          </a:prstGeom>
          <a:ln w="0">
            <a:noFill/>
          </a:ln>
        </p:spPr>
      </p:pic>
      <p:sp>
        <p:nvSpPr>
          <p:cNvPr id="399" name="Rectangle 7"/>
          <p:cNvSpPr/>
          <p:nvPr/>
        </p:nvSpPr>
        <p:spPr>
          <a:xfrm>
            <a:off x="7643880" y="5780160"/>
            <a:ext cx="3254400" cy="2906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0" name="Rectangle 8"/>
          <p:cNvSpPr/>
          <p:nvPr/>
        </p:nvSpPr>
        <p:spPr>
          <a:xfrm>
            <a:off x="8507520" y="8313840"/>
            <a:ext cx="1766880" cy="3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77400" tIns="38160" bIns="38160" anchor="ctr">
            <a:noAutofit/>
          </a:bodyPr>
          <a:p>
            <a:pPr algn="ctr">
              <a:lnSpc>
                <a:spcPct val="100000"/>
              </a:lnSpc>
              <a:spcBef>
                <a:spcPts val="1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63636"/>
                </a:solidFill>
                <a:latin typeface="Helvetica Neue"/>
                <a:ea typeface="Helvetica Neue"/>
              </a:rPr>
              <a:t>Now standardized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1" name="Rectangle 9"/>
          <p:cNvSpPr/>
          <p:nvPr/>
        </p:nvSpPr>
        <p:spPr>
          <a:xfrm>
            <a:off x="7643880" y="4502160"/>
            <a:ext cx="4116240" cy="1262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2" name="Rectangle 10"/>
          <p:cNvSpPr/>
          <p:nvPr/>
        </p:nvSpPr>
        <p:spPr>
          <a:xfrm>
            <a:off x="8150400" y="4546440"/>
            <a:ext cx="167472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77400" tIns="38160" bIns="38160" anchor="ctr">
            <a:noAutofit/>
          </a:bodyPr>
          <a:p>
            <a:pPr algn="ctr">
              <a:lnSpc>
                <a:spcPct val="100000"/>
              </a:lnSpc>
              <a:spcBef>
                <a:spcPts val="1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63636"/>
                </a:solidFill>
                <a:latin typeface="Helvetica Neue"/>
                <a:ea typeface="Helvetica Neue"/>
              </a:rPr>
              <a:t>Current research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3" name="Rectangle 11"/>
          <p:cNvSpPr/>
          <p:nvPr/>
        </p:nvSpPr>
        <p:spPr>
          <a:xfrm>
            <a:off x="7480440" y="3848040"/>
            <a:ext cx="4457520" cy="487692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04" name="Picture 12" descr=""/>
          <p:cNvPicPr/>
          <p:nvPr/>
        </p:nvPicPr>
        <p:blipFill>
          <a:blip r:embed="rId2"/>
          <a:srcRect l="34367" t="43074" r="45759" b="40876"/>
          <a:stretch/>
        </p:blipFill>
        <p:spPr>
          <a:xfrm>
            <a:off x="9004320" y="5816520"/>
            <a:ext cx="851040" cy="711360"/>
          </a:xfrm>
          <a:prstGeom prst="rect">
            <a:avLst/>
          </a:prstGeom>
          <a:ln w="0">
            <a:noFill/>
          </a:ln>
        </p:spPr>
      </p:pic>
      <p:sp>
        <p:nvSpPr>
          <p:cNvPr id="405" name="Rectangle 63"/>
          <p:cNvSpPr/>
          <p:nvPr/>
        </p:nvSpPr>
        <p:spPr>
          <a:xfrm>
            <a:off x="647640" y="6248520"/>
            <a:ext cx="6108840" cy="431640"/>
          </a:xfrm>
          <a:prstGeom prst="rect">
            <a:avLst/>
          </a:prstGeom>
          <a:noFill/>
          <a:ln w="88920">
            <a:solidFill>
              <a:srgbClr val="cc0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6" name="Rectangle 64"/>
          <p:cNvSpPr/>
          <p:nvPr/>
        </p:nvSpPr>
        <p:spPr>
          <a:xfrm>
            <a:off x="647640" y="9461520"/>
            <a:ext cx="1135404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entspricht Kapitel 6 des Buches „Semantic Web - Grundlagen“ - siehe auch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3"/>
              </a:rPr>
              <a:t>http://www.semantic-web-grundlagen.de/index.php/Kapitel_6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entr" presetID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6C4D6-2108-49F7-B324-19593C77FE9C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Einfaches Beispiel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977760" y="2387160"/>
            <a:ext cx="1104912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8000"/>
                </a:solidFill>
                <a:latin typeface="Arial"/>
                <a:ea typeface="Arial"/>
              </a:rPr>
              <a:t>Terminologisches Wissen (</a:t>
            </a:r>
            <a:r>
              <a:rPr b="0" i="1" lang="en-US" sz="3400" spc="-1" strike="noStrike">
                <a:solidFill>
                  <a:srgbClr val="008000"/>
                </a:solidFill>
                <a:latin typeface="Arial"/>
                <a:ea typeface="Arial"/>
              </a:rPr>
              <a:t>TBox</a:t>
            </a:r>
            <a:r>
              <a:rPr b="0" lang="en-US" sz="3400" spc="-1" strike="noStrike">
                <a:solidFill>
                  <a:srgbClr val="008000"/>
                </a:solidFill>
                <a:latin typeface="Arial"/>
                <a:ea typeface="Arial"/>
              </a:rPr>
              <a:t>):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Human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v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9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hasParent.Human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Orphan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´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 Human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9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hasParent.Alive 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8000"/>
                </a:solidFill>
                <a:latin typeface="Arial"/>
                <a:ea typeface="Arial"/>
              </a:rPr>
              <a:t>Wissen um Individuen (</a:t>
            </a:r>
            <a:r>
              <a:rPr b="0" i="1" lang="en-US" sz="3400" spc="-1" strike="noStrike">
                <a:solidFill>
                  <a:srgbClr val="008000"/>
                </a:solidFill>
                <a:latin typeface="Arial"/>
                <a:ea typeface="Arial"/>
              </a:rPr>
              <a:t>ABox</a:t>
            </a:r>
            <a:r>
              <a:rPr b="0" lang="en-US" sz="3400" spc="-1" strike="noStrike">
                <a:solidFill>
                  <a:srgbClr val="008000"/>
                </a:solidFill>
                <a:latin typeface="Arial"/>
                <a:ea typeface="Arial"/>
              </a:rPr>
              <a:t>):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Orphan(harrypotter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hasParent(harrypotter,jamespotter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Semantik und logische Konsequenzen klar, da übersetzbar nach FOL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A910B-58AC-4FF6-8108-009E3AF57FA0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OWL und ALC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977760" y="2387160"/>
            <a:ext cx="1104912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Folgende OWL DL Sprachelemente sind in ALC repräsentierbar: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Klassen, Rollen, Individuen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Klassenzugehörigkeit, Rolleninstanzen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owl:Thing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und </a:t>
            </a:r>
            <a:r>
              <a:rPr b="0" lang="en-US" sz="3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owl:Nothing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Klasseninklusion, -äquivalenz, -disjunktheit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owl:intersectionOf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en-US" sz="3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owl:unionOf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owl:complementOf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owl:allValuesFrom, owl:someValuesFrom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range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und </a:t>
            </a:r>
            <a:r>
              <a:rPr b="0" lang="en-US" sz="3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domain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EEEAD-CAD1-480F-92E2-9431C73F9050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Beschreibungslogik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ALC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cc0006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6"/>
                </a:solidFill>
                <a:latin typeface="Helvetica Neue"/>
              </a:rPr>
              <a:t>OWL als </a:t>
            </a:r>
            <a:r>
              <a:rPr b="0" lang="en-US" sz="4200" spc="-1" strike="noStrike">
                <a:solidFill>
                  <a:srgbClr val="cc0006"/>
                </a:solidFill>
                <a:latin typeface="Lucida Calligraphy"/>
                <a:ea typeface="Lucida Calligraphy"/>
              </a:rPr>
              <a:t>SHOIN</a:t>
            </a:r>
            <a:r>
              <a:rPr b="0" lang="en-US" sz="4200" spc="-1" strike="noStrike">
                <a:solidFill>
                  <a:srgbClr val="cc0006"/>
                </a:solidFill>
                <a:latin typeface="Helvetica Neue"/>
              </a:rPr>
              <a:t>(D)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Inferenzprobleme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Tableau-Beweiser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C0D00-9677-4F40-BBCA-E4D04A4BADE3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OWL als SHOIN(D) - Individu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977760" y="2387160"/>
            <a:ext cx="1104912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382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owl:sameAs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gibt an dass zwei Individuennamen dasselbe Domänenelement bezeichnen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L: a=b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FOL: Erweiterung durch Gleichheitsprädikat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owl:differentFrom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gibt an dass zwei Individuennamen unterschiedliche Domänenelemente bezeichnen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L: a</a:t>
            </a:r>
            <a:r>
              <a:rPr b="0" lang="en-US" sz="3400" spc="-1" strike="noStrike">
                <a:solidFill>
                  <a:srgbClr val="000000"/>
                </a:solidFill>
                <a:latin typeface="Symbol"/>
                <a:ea typeface="Symbol"/>
              </a:rPr>
              <a:t>≠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FOL: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(a=b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2B9C5-E156-487E-9A57-6D3BFA933D02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536840" y="15192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Bodoni SvtyTwo SC ITC TT-Book"/>
              </a:rPr>
              <a:t>OWL als SHOIN(D) – 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Bodoni SvtyTwo SC ITC TT-Book"/>
              </a:rPr>
              <a:t>abgeschlossene Klassen</a:t>
            </a:r>
            <a:endParaRPr b="0" lang="en-US" sz="5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977760" y="2387160"/>
            <a:ext cx="1104912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Abgeschlossene Klassen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owl:oneOf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efiniert eine Klasse durch vollständige Aufzählung ihrer Instanzen 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L: 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C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´ 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{a,b,c}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FOL: 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8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x) (C(x)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$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(x=a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Ç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x=b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Ç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x=c)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owl:hasValue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„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erzwingt“ Rolle zu einem bestimmten Individuum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arstellbar mittels owl:someValuesFrom und owl:oneOf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910F3-F620-458C-BA13-8A6D1035F619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OWL als SHOIN(D) - Kardinalität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1339560" y="1906200"/>
            <a:ext cx="11048760" cy="784692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Zahlenrestriktionen mittels Gleichheitsprädikat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owl:Class rdf:about="#Pruefung"&gt;</a:t>
            </a:r>
            <a:endParaRPr b="0" lang="en-US" sz="19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  </a:t>
            </a:r>
            <a:r>
              <a:rPr b="0" lang="en-US" sz="19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rdfs:subClassOf&gt;</a:t>
            </a:r>
            <a:endParaRPr b="0" lang="en-US" sz="19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owl:Restriction&gt;</a:t>
            </a:r>
            <a:endParaRPr b="0" lang="en-US" sz="19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      </a:t>
            </a:r>
            <a:r>
              <a:rPr b="0" lang="en-US" sz="19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owl:onProperty rdf:resource="#hatPruefer"/&gt;</a:t>
            </a:r>
            <a:endParaRPr b="0" lang="en-US" sz="19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      </a:t>
            </a:r>
            <a:r>
              <a:rPr b="0" lang="en-US" sz="19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owl:maxCardinality rdf:datatype="&amp;xsd;nonNegativeInteger"&gt;2&lt;/owl:maxcardinality&gt;</a:t>
            </a:r>
            <a:endParaRPr b="0" lang="en-US" sz="19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/owl:Restriction&gt;</a:t>
            </a:r>
            <a:endParaRPr b="0" lang="en-US" sz="19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  </a:t>
            </a:r>
            <a:r>
              <a:rPr b="0" lang="en-US" sz="19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/rdfs:subClassOf&gt;</a:t>
            </a:r>
            <a:endParaRPr b="0" lang="en-US" sz="19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/owl:Class&gt;</a:t>
            </a:r>
            <a:endParaRPr b="0" lang="en-US" sz="19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„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ine Prüfung kan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höchstens zwe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Prüfer haben.“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L: Pruefung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  <a:ea typeface="cmsy10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≤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2 hatPruefer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n FOL: (P… Prüfung, h…hatPruefer)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  <a:ea typeface="cmsy10"/>
              </a:rPr>
              <a:t>8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x)(P(x)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  <a:ea typeface="cmsy10"/>
              </a:rPr>
              <a:t>!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  <a:ea typeface="cmsy10"/>
              </a:rPr>
              <a:t>9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x1)(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  <a:ea typeface="cmsy10"/>
              </a:rPr>
              <a:t>9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x2)(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  <a:ea typeface="cmsy10"/>
              </a:rPr>
              <a:t>9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x3)(x1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x2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  <a:ea typeface="cmsy10"/>
              </a:rPr>
              <a:t>Æ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x2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x3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  <a:ea typeface="cmsy10"/>
              </a:rPr>
              <a:t>Æ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x1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x3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  <a:ea typeface="cmsy10"/>
              </a:rPr>
              <a:t>Æ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h(x,x1)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  <a:ea typeface="cmsy10"/>
              </a:rPr>
              <a:t>Æ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h(x,x2)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  <a:ea typeface="cmsy10"/>
              </a:rPr>
              <a:t>Æ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h(x,x3)))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ntsprechend für die anderen Zahlenrestriktionen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A3878-0324-48E0-B4A6-0D9724CF916B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OWL als SHOIN(D) - Roll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1473120" y="1906200"/>
            <a:ext cx="11049120" cy="91947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382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subPropertyOf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spezifiziert Unterrolle-Oberrolle-Beziehung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DL: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R 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  <a:ea typeface="cmsy10"/>
              </a:rPr>
              <a:t>v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FOL: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  <a:ea typeface="cmsy10"/>
              </a:rPr>
              <a:t>8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x)(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  <a:ea typeface="cmsy10"/>
              </a:rPr>
              <a:t>8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y)(R(x,y) 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  <a:ea typeface="cmsy10"/>
              </a:rPr>
              <a:t>!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S(x,y))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Entsprechend Rollenäquivalenz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inverse Rollen: R 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  <a:ea typeface="cmsy10"/>
              </a:rPr>
              <a:t>´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S</a:t>
            </a:r>
            <a:r>
              <a:rPr b="0" lang="en-US" sz="4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</a:t>
            </a:r>
            <a:endParaRPr b="0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Konstruktor für Rollen zur Bildung der Inversen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FOL: (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  <a:ea typeface="cmsy10"/>
              </a:rPr>
              <a:t>8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x)(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  <a:ea typeface="cmsy10"/>
              </a:rPr>
              <a:t>8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y)(R(x,y) 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  <a:ea typeface="cmsy10"/>
              </a:rPr>
              <a:t>$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S(y,x))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transitive Rollen: Trans(R)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gibt an, dass eine Rolle transitiv ist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FOL: (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  <a:ea typeface="cmsy10"/>
              </a:rPr>
              <a:t>8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x)(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  <a:ea typeface="cmsy10"/>
              </a:rPr>
              <a:t>8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y)(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  <a:ea typeface="cmsy10"/>
              </a:rPr>
              <a:t>8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z)(R(x,y) 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  <a:ea typeface="cmsy10"/>
              </a:rPr>
              <a:t>Æ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R(y,z) 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  <a:ea typeface="cmsy10"/>
              </a:rPr>
              <a:t>!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R(x,z))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Symmetrie: R 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  <a:ea typeface="cmsy10"/>
              </a:rPr>
              <a:t>´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R</a:t>
            </a:r>
            <a:r>
              <a:rPr b="0" lang="en-US" sz="4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</a:t>
            </a:r>
            <a:endParaRPr b="0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ausdrückbar als Rollenäquivalenz mit der Inversen 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Funktionalität: 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  <a:ea typeface="cmsy10"/>
              </a:rPr>
              <a:t>&gt;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  <a:ea typeface="cmsy10"/>
              </a:rPr>
              <a:t>v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≤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1 R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ausdrückbar durch Klasseninklusion und Kardinalitätsrestriktion 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Inverse Funktionalität: 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  <a:ea typeface="cmsy10"/>
              </a:rPr>
              <a:t>&gt;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  <a:ea typeface="cmsy10"/>
              </a:rPr>
              <a:t>v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≤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1 R</a:t>
            </a:r>
            <a:r>
              <a:rPr b="0" lang="en-US" sz="4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</a:t>
            </a:r>
            <a:endParaRPr b="0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ausdrückbar wie Funktionalität zuzüglich inverser Rolle 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050FD-77E6-400F-B7D0-79519100DEB7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OWL als SHOIN(D) - Überblick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977760" y="2387160"/>
            <a:ext cx="1104912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Erlaubt sind: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Lucida Calligraphy"/>
                <a:ea typeface="Arial"/>
              </a:rPr>
              <a:t>ALC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Gleichheit und Ungleichheit zwischen Individuen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Abgeschlossene Klassen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Zahlenrestriktionen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Subrollen und Rollenäquivalenz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Inverse und transitive Rollen 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atentypen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C100B-A53C-45E8-AAB4-4D0716DD1C08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DLs - Nomenklatur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1365120" y="2063880"/>
            <a:ext cx="11049120" cy="76197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382680" indent="-34308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ALC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: Attribute Language with Complement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S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r>
              <a:rPr b="0" lang="en-US" sz="34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ALC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+ Rollentransitivität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H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: Subrollenbeziehung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O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: abgeschlossene Klassen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: inverse Rollen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N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: Zahlenrestriktionen </a:t>
            </a:r>
            <a:r>
              <a:rPr b="0" lang="en-US" sz="3400" spc="-1" strike="noStrike">
                <a:solidFill>
                  <a:srgbClr val="000000"/>
                </a:solidFill>
                <a:latin typeface="Symbol"/>
                <a:ea typeface="Symbol"/>
              </a:rPr>
              <a:t>≤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n R etc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Q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: Qualifizierende Zahlenrestriktionen </a:t>
            </a:r>
            <a:r>
              <a:rPr b="0" lang="en-US" sz="3400" spc="-1" strike="noStrike">
                <a:solidFill>
                  <a:srgbClr val="000000"/>
                </a:solidFill>
                <a:latin typeface="Symbol"/>
                <a:ea typeface="Symbol"/>
              </a:rPr>
              <a:t>≤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n R.C etc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(D): Datentypen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F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: Funktionale Rollen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OWL DL ist </a:t>
            </a:r>
            <a:r>
              <a:rPr b="0" lang="en-US" sz="34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SHOIN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(D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OWL Lite ist </a:t>
            </a:r>
            <a:r>
              <a:rPr b="0" lang="en-US" sz="34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SHIF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(D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1F4AB-04E1-4166-90AE-00FDA559099B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DL-Syntax - Übersicht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09" name="Rectangle 2"/>
          <p:cNvSpPr/>
          <p:nvPr/>
        </p:nvSpPr>
        <p:spPr>
          <a:xfrm>
            <a:off x="6431040" y="2178000"/>
            <a:ext cx="5092560" cy="6604200"/>
          </a:xfrm>
          <a:prstGeom prst="rect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t">
            <a:noAutofit/>
          </a:bodyPr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ntology (=Knowledge Base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510" name=""/>
          <p:cNvGraphicFramePr/>
          <p:nvPr/>
        </p:nvGraphicFramePr>
        <p:xfrm>
          <a:off x="1633680" y="2536920"/>
          <a:ext cx="4206600" cy="4451400"/>
        </p:xfrm>
        <a:graphic>
          <a:graphicData uri="http://schemas.openxmlformats.org/drawingml/2006/table">
            <a:tbl>
              <a:tblPr/>
              <a:tblGrid>
                <a:gridCol w="1336680"/>
                <a:gridCol w="2869920"/>
              </a:tblGrid>
              <a:tr h="44928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tomic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A, B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msy10"/>
                          <a:ea typeface="cmsy10"/>
                        </a:rPr>
                        <a:t>: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40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msy10"/>
                          <a:ea typeface="cmsy10"/>
                        </a:rPr>
                        <a:t>u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76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msy10"/>
                          <a:ea typeface="cmsy10"/>
                        </a:rPr>
                        <a:t>t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40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is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msy10"/>
                          <a:ea typeface="cmsy10"/>
                        </a:rPr>
                        <a:t>9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R.C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76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or al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msy10"/>
                          <a:ea typeface="cmsy10"/>
                        </a:rPr>
                        <a:t>8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R.C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76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t leas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≥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n R.C (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≥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n R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00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t mos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≤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n R.C (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≤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n R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184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losed clas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{i</a:t>
                      </a:r>
                      <a:r>
                        <a:rPr b="0" lang="en-US" sz="2200" spc="-1" strike="noStrike" baseline="-20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,…,i</a:t>
                      </a:r>
                      <a:r>
                        <a:rPr b="0" lang="en-US" sz="2200" spc="-1" strike="noStrike" baseline="-20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}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511" name="Group 69"/>
          <p:cNvGrpSpPr/>
          <p:nvPr/>
        </p:nvGrpSpPr>
        <p:grpSpPr>
          <a:xfrm>
            <a:off x="1633680" y="1996920"/>
            <a:ext cx="4208040" cy="536400"/>
            <a:chOff x="1633680" y="1996920"/>
            <a:chExt cx="4208040" cy="536400"/>
          </a:xfrm>
        </p:grpSpPr>
        <p:sp>
          <p:nvSpPr>
            <p:cNvPr id="512" name="Rectangle 70"/>
            <p:cNvSpPr/>
            <p:nvPr/>
          </p:nvSpPr>
          <p:spPr>
            <a:xfrm>
              <a:off x="1633680" y="1996920"/>
              <a:ext cx="4206240" cy="536400"/>
            </a:xfrm>
            <a:prstGeom prst="rect">
              <a:avLst/>
            </a:prstGeom>
            <a:solidFill>
              <a:srgbClr val="cf9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13" name="Rectangle 71"/>
            <p:cNvSpPr/>
            <p:nvPr/>
          </p:nvSpPr>
          <p:spPr>
            <a:xfrm>
              <a:off x="1633680" y="1996920"/>
              <a:ext cx="4208040" cy="39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57960" tIns="0" bIns="0" anchor="t">
              <a:noAutofit/>
            </a:bodyPr>
            <a:p>
              <a:pPr marL="572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Concepts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514" name="Group 72"/>
          <p:cNvGrpSpPr/>
          <p:nvPr/>
        </p:nvGrpSpPr>
        <p:grpSpPr>
          <a:xfrm>
            <a:off x="1536840" y="7129440"/>
            <a:ext cx="4106880" cy="536400"/>
            <a:chOff x="1536840" y="7129440"/>
            <a:chExt cx="4106880" cy="536400"/>
          </a:xfrm>
        </p:grpSpPr>
        <p:sp>
          <p:nvSpPr>
            <p:cNvPr id="515" name="Rectangle 73"/>
            <p:cNvSpPr/>
            <p:nvPr/>
          </p:nvSpPr>
          <p:spPr>
            <a:xfrm>
              <a:off x="1536840" y="7129440"/>
              <a:ext cx="4106880" cy="536400"/>
            </a:xfrm>
            <a:prstGeom prst="rect">
              <a:avLst/>
            </a:prstGeom>
            <a:solidFill>
              <a:srgbClr val="cf9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16" name="Rectangle 74"/>
            <p:cNvSpPr/>
            <p:nvPr/>
          </p:nvSpPr>
          <p:spPr>
            <a:xfrm>
              <a:off x="1536840" y="7129440"/>
              <a:ext cx="4097160" cy="39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57960" tIns="0" bIns="0" anchor="t">
              <a:noAutofit/>
            </a:bodyPr>
            <a:p>
              <a:pPr marL="572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Roles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aphicFrame>
        <p:nvGraphicFramePr>
          <p:cNvPr id="517" name=""/>
          <p:cNvGraphicFramePr/>
          <p:nvPr/>
        </p:nvGraphicFramePr>
        <p:xfrm>
          <a:off x="1536840" y="7669080"/>
          <a:ext cx="4106880" cy="932040"/>
        </p:xfrm>
        <a:graphic>
          <a:graphicData uri="http://schemas.openxmlformats.org/drawingml/2006/table">
            <a:tbl>
              <a:tblPr/>
              <a:tblGrid>
                <a:gridCol w="2344680"/>
                <a:gridCol w="1762200"/>
              </a:tblGrid>
              <a:tr h="47628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tomic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76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vers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R</a:t>
                      </a:r>
                      <a:r>
                        <a:rPr b="0" lang="en-US" sz="2200" spc="-1" strike="noStrike" baseline="31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-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8" name="AutoShape 92"/>
          <p:cNvSpPr/>
          <p:nvPr/>
        </p:nvSpPr>
        <p:spPr>
          <a:xfrm rot="16200000">
            <a:off x="66600" y="3711240"/>
            <a:ext cx="2701800" cy="35244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ALC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9" name="AutoShape 93"/>
          <p:cNvSpPr/>
          <p:nvPr/>
        </p:nvSpPr>
        <p:spPr>
          <a:xfrm rot="16200000">
            <a:off x="920520" y="5559120"/>
            <a:ext cx="993960" cy="35244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Q (N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0" name="AutoShape 94"/>
          <p:cNvSpPr/>
          <p:nvPr/>
        </p:nvSpPr>
        <p:spPr>
          <a:xfrm rot="16200000">
            <a:off x="1104840" y="8172360"/>
            <a:ext cx="444600" cy="35532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521" name="Group 95"/>
          <p:cNvGrpSpPr/>
          <p:nvPr/>
        </p:nvGrpSpPr>
        <p:grpSpPr>
          <a:xfrm>
            <a:off x="6913440" y="2806560"/>
            <a:ext cx="4008240" cy="534960"/>
            <a:chOff x="6913440" y="2806560"/>
            <a:chExt cx="4008240" cy="534960"/>
          </a:xfrm>
        </p:grpSpPr>
        <p:sp>
          <p:nvSpPr>
            <p:cNvPr id="522" name="Rectangle 96"/>
            <p:cNvSpPr/>
            <p:nvPr/>
          </p:nvSpPr>
          <p:spPr>
            <a:xfrm>
              <a:off x="6913440" y="2806560"/>
              <a:ext cx="4008240" cy="534960"/>
            </a:xfrm>
            <a:prstGeom prst="rect">
              <a:avLst/>
            </a:prstGeom>
            <a:solidFill>
              <a:srgbClr val="cf9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23" name="Rectangle 97"/>
            <p:cNvSpPr/>
            <p:nvPr/>
          </p:nvSpPr>
          <p:spPr>
            <a:xfrm>
              <a:off x="6913440" y="2806560"/>
              <a:ext cx="4002120" cy="3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57960" tIns="0" bIns="0" anchor="t">
              <a:noAutofit/>
            </a:bodyPr>
            <a:p>
              <a:pPr marL="572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Concept Axioms (TBox)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aphicFrame>
        <p:nvGraphicFramePr>
          <p:cNvPr id="524" name=""/>
          <p:cNvGraphicFramePr/>
          <p:nvPr/>
        </p:nvGraphicFramePr>
        <p:xfrm>
          <a:off x="6913440" y="3352680"/>
          <a:ext cx="4008600" cy="932040"/>
        </p:xfrm>
        <a:graphic>
          <a:graphicData uri="http://schemas.openxmlformats.org/drawingml/2006/table">
            <a:tbl>
              <a:tblPr/>
              <a:tblGrid>
                <a:gridCol w="2251080"/>
                <a:gridCol w="1757520"/>
              </a:tblGrid>
              <a:tr h="47628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bclas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msy10"/>
                          <a:ea typeface="cmsy10"/>
                        </a:rPr>
                        <a:t>v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576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quivalen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msy10"/>
                          <a:ea typeface="cmsy10"/>
                        </a:rPr>
                        <a:t>´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pSp>
        <p:nvGrpSpPr>
          <p:cNvPr id="525" name="Group 115"/>
          <p:cNvGrpSpPr/>
          <p:nvPr/>
        </p:nvGrpSpPr>
        <p:grpSpPr>
          <a:xfrm>
            <a:off x="6913440" y="4519440"/>
            <a:ext cx="4008240" cy="536400"/>
            <a:chOff x="6913440" y="4519440"/>
            <a:chExt cx="4008240" cy="536400"/>
          </a:xfrm>
        </p:grpSpPr>
        <p:sp>
          <p:nvSpPr>
            <p:cNvPr id="526" name="Rectangle 116"/>
            <p:cNvSpPr/>
            <p:nvPr/>
          </p:nvSpPr>
          <p:spPr>
            <a:xfrm>
              <a:off x="6913440" y="4519440"/>
              <a:ext cx="4008240" cy="536400"/>
            </a:xfrm>
            <a:prstGeom prst="rect">
              <a:avLst/>
            </a:prstGeom>
            <a:solidFill>
              <a:srgbClr val="cf9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27" name="Rectangle 117"/>
            <p:cNvSpPr/>
            <p:nvPr/>
          </p:nvSpPr>
          <p:spPr>
            <a:xfrm>
              <a:off x="6913440" y="4519440"/>
              <a:ext cx="4002120" cy="39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57960" tIns="0" bIns="0" anchor="t">
              <a:noAutofit/>
            </a:bodyPr>
            <a:p>
              <a:pPr marL="572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Role Axioms (RBox)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528" name="Group 118"/>
          <p:cNvGrpSpPr/>
          <p:nvPr/>
        </p:nvGrpSpPr>
        <p:grpSpPr>
          <a:xfrm>
            <a:off x="6916680" y="6114960"/>
            <a:ext cx="4006800" cy="536400"/>
            <a:chOff x="6916680" y="6114960"/>
            <a:chExt cx="4006800" cy="536400"/>
          </a:xfrm>
        </p:grpSpPr>
        <p:sp>
          <p:nvSpPr>
            <p:cNvPr id="529" name="Rectangle 119"/>
            <p:cNvSpPr/>
            <p:nvPr/>
          </p:nvSpPr>
          <p:spPr>
            <a:xfrm>
              <a:off x="6916680" y="6114960"/>
              <a:ext cx="4006800" cy="536400"/>
            </a:xfrm>
            <a:prstGeom prst="rect">
              <a:avLst/>
            </a:prstGeom>
            <a:solidFill>
              <a:srgbClr val="cf9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30" name="Rectangle 120"/>
            <p:cNvSpPr/>
            <p:nvPr/>
          </p:nvSpPr>
          <p:spPr>
            <a:xfrm>
              <a:off x="6916680" y="6114960"/>
              <a:ext cx="4000680" cy="39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57960" tIns="0" bIns="0" anchor="t">
              <a:noAutofit/>
            </a:bodyPr>
            <a:p>
              <a:pPr marL="572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Assertional Axioms (ABox)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aphicFrame>
        <p:nvGraphicFramePr>
          <p:cNvPr id="531" name=""/>
          <p:cNvGraphicFramePr/>
          <p:nvPr/>
        </p:nvGraphicFramePr>
        <p:xfrm>
          <a:off x="6916680" y="6611760"/>
          <a:ext cx="4006800" cy="1959120"/>
        </p:xfrm>
        <a:graphic>
          <a:graphicData uri="http://schemas.openxmlformats.org/drawingml/2006/table">
            <a:tbl>
              <a:tblPr/>
              <a:tblGrid>
                <a:gridCol w="2247840"/>
                <a:gridCol w="1758960"/>
              </a:tblGrid>
              <a:tr h="49392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stanc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(a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356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ol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R(a,b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392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a = b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7772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ifferen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a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≠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b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532" name="AutoShape 152"/>
          <p:cNvSpPr/>
          <p:nvPr/>
        </p:nvSpPr>
        <p:spPr>
          <a:xfrm rot="16200000">
            <a:off x="6476400" y="5105880"/>
            <a:ext cx="446040" cy="35244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3" name="AutoShape 153"/>
          <p:cNvSpPr/>
          <p:nvPr/>
        </p:nvSpPr>
        <p:spPr>
          <a:xfrm rot="16200000">
            <a:off x="1038960" y="6440760"/>
            <a:ext cx="762120" cy="35100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4" name="AutoShape 154"/>
          <p:cNvSpPr/>
          <p:nvPr/>
        </p:nvSpPr>
        <p:spPr>
          <a:xfrm rot="16200000">
            <a:off x="6477120" y="5557320"/>
            <a:ext cx="446040" cy="35100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535" name=""/>
          <p:cNvGraphicFramePr/>
          <p:nvPr/>
        </p:nvGraphicFramePr>
        <p:xfrm>
          <a:off x="6913440" y="5059440"/>
          <a:ext cx="4008600" cy="947520"/>
        </p:xfrm>
        <a:graphic>
          <a:graphicData uri="http://schemas.openxmlformats.org/drawingml/2006/table">
            <a:tbl>
              <a:tblPr/>
              <a:tblGrid>
                <a:gridCol w="2251080"/>
                <a:gridCol w="1757520"/>
              </a:tblGrid>
              <a:tr h="47304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brol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R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msy10"/>
                          <a:ea typeface="cmsy10"/>
                        </a:rPr>
                        <a:t>v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7448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ransitivity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rans(S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536" name="Rectangle 172"/>
          <p:cNvSpPr/>
          <p:nvPr/>
        </p:nvSpPr>
        <p:spPr>
          <a:xfrm>
            <a:off x="1058760" y="8839080"/>
            <a:ext cx="11937960" cy="435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t">
            <a:noAutofit/>
          </a:bodyPr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AL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+ Transitiv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  <a:ea typeface="Arial"/>
              </a:rPr>
              <a:t>OWL DL = </a:t>
            </a:r>
            <a:r>
              <a:rPr b="0" lang="en-US" sz="2800" spc="-1" strike="noStrike">
                <a:solidFill>
                  <a:srgbClr val="cc0000"/>
                </a:solidFill>
                <a:latin typeface="Lucida Calligraphy"/>
                <a:ea typeface="Lucida Calligraphy"/>
              </a:rPr>
              <a:t>SHOIN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  <a:ea typeface="Arial"/>
              </a:rPr>
              <a:t>(D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D: concrete domain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cover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04C8F-B887-40C7-A38A-5D6E3FC82457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Beschreibungslogik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ALC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WL als </a:t>
            </a:r>
            <a:r>
              <a:rPr b="0" lang="en-US" sz="42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SHOIN</a:t>
            </a: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(D)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Inferenzprobleme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Tableau-Beweiser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EFA84-CA64-435C-9E22-CC3AE94B01F9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DL-Syntax - Klassenkonstruktor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766800" y="7129080"/>
            <a:ext cx="11049120" cy="262404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eliebig komplexes Schachteln von Konstruktoren erlaubt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erson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8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asChild.(Doctor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t 9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asChild.Doctor)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540" name="Picture 3" descr=""/>
          <p:cNvPicPr/>
          <p:nvPr/>
        </p:nvPicPr>
        <p:blipFill>
          <a:blip r:embed="rId1"/>
          <a:stretch/>
        </p:blipFill>
        <p:spPr>
          <a:xfrm>
            <a:off x="460440" y="2900520"/>
            <a:ext cx="12187080" cy="342900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792F7-1650-4E74-824A-BBAF957074B7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DL-Syntax - Axiome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1593720" y="6982920"/>
            <a:ext cx="11049120" cy="344340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382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General Class Inclusion (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v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) genügt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C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´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D  gdw ( C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v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D und D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v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C 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Offensichtliche FOL-Äquivalenzen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C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´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D 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,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 (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8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x) ( C(x)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$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D(x) ) 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C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v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D</a:t>
            </a:r>
            <a:r>
              <a:rPr b="0" lang="en-US" sz="3400" spc="-1" strike="noStrike">
                <a:solidFill>
                  <a:srgbClr val="000000"/>
                </a:solidFill>
                <a:latin typeface="Modern No. 20"/>
                <a:ea typeface="Modern No. 20"/>
              </a:rPr>
              <a:t> 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,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 (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8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x) ( C(x)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!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D(x) 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544" name="Picture 3" descr=""/>
          <p:cNvPicPr/>
          <p:nvPr/>
        </p:nvPicPr>
        <p:blipFill>
          <a:blip r:embed="rId1"/>
          <a:stretch/>
        </p:blipFill>
        <p:spPr>
          <a:xfrm>
            <a:off x="1492200" y="1862280"/>
            <a:ext cx="11061720" cy="4825800"/>
          </a:xfrm>
          <a:prstGeom prst="rect">
            <a:avLst/>
          </a:prstGeom>
          <a:ln w="0">
            <a:noFill/>
          </a:ln>
        </p:spPr>
      </p:pic>
      <p:pic>
        <p:nvPicPr>
          <p:cNvPr id="545" name="Picture 4" descr=""/>
          <p:cNvPicPr/>
          <p:nvPr/>
        </p:nvPicPr>
        <p:blipFill>
          <a:blip r:embed="rId2"/>
          <a:srcRect l="20020" t="32712" r="64477" b="58608"/>
          <a:stretch/>
        </p:blipFill>
        <p:spPr>
          <a:xfrm>
            <a:off x="2374920" y="3441600"/>
            <a:ext cx="1714320" cy="41904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DC242-1D28-4AFF-9A08-352F25FB880A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45520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Bodoni SvtyTwo SC ITC TT-Book"/>
              </a:rPr>
              <a:t>Wissensmodellierung OWA vs. CWA</a:t>
            </a:r>
            <a:endParaRPr b="0" lang="en-US" sz="60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48" name="Rectangle 2"/>
          <p:cNvSpPr/>
          <p:nvPr/>
        </p:nvSpPr>
        <p:spPr>
          <a:xfrm>
            <a:off x="3695760" y="7948440"/>
            <a:ext cx="389880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t">
            <a:noAutofit/>
          </a:bodyPr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1d58"/>
                </a:solidFill>
                <a:latin typeface="Arial"/>
                <a:ea typeface="Arial"/>
              </a:rPr>
              <a:t>? </a:t>
            </a:r>
            <a:r>
              <a:rPr b="0" lang="en-US" sz="2800" spc="-1" strike="noStrike">
                <a:solidFill>
                  <a:srgbClr val="081d58"/>
                </a:solidFill>
                <a:latin typeface="msam10"/>
                <a:ea typeface="msam10"/>
              </a:rPr>
              <a:t>²</a:t>
            </a:r>
            <a:r>
              <a:rPr b="1" lang="en-US" sz="2800" spc="-1" strike="noStrike">
                <a:solidFill>
                  <a:srgbClr val="081d5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1d58"/>
                </a:solidFill>
                <a:latin typeface="Symbol"/>
                <a:ea typeface="Symbol"/>
              </a:rPr>
              <a:t>∀</a:t>
            </a:r>
            <a:r>
              <a:rPr b="1" lang="en-US" sz="2800" spc="-1" strike="noStrike">
                <a:solidFill>
                  <a:srgbClr val="081d58"/>
                </a:solidFill>
                <a:latin typeface="Arial"/>
                <a:ea typeface="Arial"/>
              </a:rPr>
              <a:t>child.Man(Bill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549" name="Group 3"/>
          <p:cNvGrpSpPr/>
          <p:nvPr/>
        </p:nvGrpSpPr>
        <p:grpSpPr>
          <a:xfrm>
            <a:off x="723960" y="7537320"/>
            <a:ext cx="2870280" cy="1227960"/>
            <a:chOff x="723960" y="7537320"/>
            <a:chExt cx="2870280" cy="1227960"/>
          </a:xfrm>
        </p:grpSpPr>
        <p:grpSp>
          <p:nvGrpSpPr>
            <p:cNvPr id="550" name="Group 4"/>
            <p:cNvGrpSpPr/>
            <p:nvPr/>
          </p:nvGrpSpPr>
          <p:grpSpPr>
            <a:xfrm>
              <a:off x="723960" y="7537320"/>
              <a:ext cx="2870280" cy="616320"/>
              <a:chOff x="723960" y="7537320"/>
              <a:chExt cx="2870280" cy="616320"/>
            </a:xfrm>
          </p:grpSpPr>
          <p:sp>
            <p:nvSpPr>
              <p:cNvPr id="551" name="Rectangle 5"/>
              <p:cNvSpPr/>
              <p:nvPr/>
            </p:nvSpPr>
            <p:spPr>
              <a:xfrm>
                <a:off x="723960" y="7537320"/>
                <a:ext cx="2868480" cy="616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552" name="Rectangle 6"/>
              <p:cNvSpPr/>
              <p:nvPr/>
            </p:nvSpPr>
            <p:spPr>
              <a:xfrm>
                <a:off x="723960" y="7537320"/>
                <a:ext cx="2870280" cy="49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57960" tIns="0" bIns="0" anchor="t">
                <a:noAutofit/>
              </a:bodyPr>
              <a:p>
                <a:pPr marL="5724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81d58"/>
                    </a:solidFill>
                    <a:latin typeface="Arial"/>
                    <a:ea typeface="Arial"/>
                  </a:rPr>
                  <a:t>child(Bill,Bob)</a:t>
                </a:r>
                <a:endParaRPr b="0" lang="en-US" sz="28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grpSp>
          <p:nvGrpSpPr>
            <p:cNvPr id="553" name="Group 7"/>
            <p:cNvGrpSpPr/>
            <p:nvPr/>
          </p:nvGrpSpPr>
          <p:grpSpPr>
            <a:xfrm>
              <a:off x="723960" y="8148960"/>
              <a:ext cx="2870280" cy="616320"/>
              <a:chOff x="723960" y="8148960"/>
              <a:chExt cx="2870280" cy="616320"/>
            </a:xfrm>
          </p:grpSpPr>
          <p:sp>
            <p:nvSpPr>
              <p:cNvPr id="554" name="Rectangle 8"/>
              <p:cNvSpPr/>
              <p:nvPr/>
            </p:nvSpPr>
            <p:spPr>
              <a:xfrm>
                <a:off x="723960" y="8148960"/>
                <a:ext cx="2868480" cy="616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555" name="Rectangle 9"/>
              <p:cNvSpPr/>
              <p:nvPr/>
            </p:nvSpPr>
            <p:spPr>
              <a:xfrm>
                <a:off x="723960" y="8148960"/>
                <a:ext cx="2870280" cy="49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57960" tIns="0" bIns="0" anchor="t">
                <a:noAutofit/>
              </a:bodyPr>
              <a:p>
                <a:pPr marL="5724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81d58"/>
                    </a:solidFill>
                    <a:latin typeface="Arial"/>
                    <a:ea typeface="Arial"/>
                  </a:rPr>
                  <a:t>Man(Bob)</a:t>
                </a:r>
                <a:endParaRPr b="0" lang="en-US" sz="28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</p:grpSp>
      <p:sp>
        <p:nvSpPr>
          <p:cNvPr id="556" name="Rectangle 10"/>
          <p:cNvSpPr/>
          <p:nvPr/>
        </p:nvSpPr>
        <p:spPr>
          <a:xfrm>
            <a:off x="7381800" y="7943760"/>
            <a:ext cx="23497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t">
            <a:noAutofit/>
          </a:bodyPr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2ec00"/>
                </a:solidFill>
                <a:latin typeface="Arial"/>
                <a:ea typeface="Arial"/>
              </a:rPr>
              <a:t>don’t know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7" name="Rectangle 11"/>
          <p:cNvSpPr/>
          <p:nvPr/>
        </p:nvSpPr>
        <p:spPr>
          <a:xfrm>
            <a:off x="9947160" y="7943760"/>
            <a:ext cx="19558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t">
            <a:noAutofit/>
          </a:bodyPr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  <a:ea typeface="Arial"/>
              </a:rPr>
              <a:t>y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8" name="Rectangle 12"/>
          <p:cNvSpPr/>
          <p:nvPr/>
        </p:nvSpPr>
        <p:spPr>
          <a:xfrm>
            <a:off x="7381800" y="7429680"/>
            <a:ext cx="256536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t">
            <a:noAutofit/>
          </a:bodyPr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66ff"/>
                </a:solidFill>
                <a:latin typeface="Arial"/>
                <a:ea typeface="Arial"/>
              </a:rPr>
              <a:t>DL answer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9" name="Rectangle 13"/>
          <p:cNvSpPr/>
          <p:nvPr/>
        </p:nvSpPr>
        <p:spPr>
          <a:xfrm>
            <a:off x="9947160" y="7429680"/>
            <a:ext cx="234972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t">
            <a:noAutofit/>
          </a:bodyPr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66ff"/>
                </a:solidFill>
                <a:latin typeface="Arial"/>
                <a:ea typeface="Arial"/>
              </a:rPr>
              <a:t>Prolog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560" name="Group 14"/>
          <p:cNvGrpSpPr/>
          <p:nvPr/>
        </p:nvGrpSpPr>
        <p:grpSpPr>
          <a:xfrm>
            <a:off x="3695760" y="6615000"/>
            <a:ext cx="2862360" cy="863640"/>
            <a:chOff x="3695760" y="6615000"/>
            <a:chExt cx="2862360" cy="863640"/>
          </a:xfrm>
        </p:grpSpPr>
        <p:sp>
          <p:nvSpPr>
            <p:cNvPr id="561" name="Rectangle 15"/>
            <p:cNvSpPr/>
            <p:nvPr/>
          </p:nvSpPr>
          <p:spPr>
            <a:xfrm>
              <a:off x="3695760" y="6615000"/>
              <a:ext cx="2862360" cy="8636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62" name="Rectangle 16"/>
            <p:cNvSpPr/>
            <p:nvPr/>
          </p:nvSpPr>
          <p:spPr>
            <a:xfrm>
              <a:off x="3699000" y="6615000"/>
              <a:ext cx="2857320" cy="69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re all children of Bill male?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563" name="Group 17"/>
          <p:cNvGrpSpPr/>
          <p:nvPr/>
        </p:nvGrpSpPr>
        <p:grpSpPr>
          <a:xfrm>
            <a:off x="6769080" y="6000840"/>
            <a:ext cx="2862360" cy="1231920"/>
            <a:chOff x="6769080" y="6000840"/>
            <a:chExt cx="2862360" cy="1231920"/>
          </a:xfrm>
        </p:grpSpPr>
        <p:sp>
          <p:nvSpPr>
            <p:cNvPr id="564" name="Rectangle 18"/>
            <p:cNvSpPr/>
            <p:nvPr/>
          </p:nvSpPr>
          <p:spPr>
            <a:xfrm>
              <a:off x="6769080" y="6000840"/>
              <a:ext cx="2862360" cy="12319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65" name="Rectangle 19"/>
            <p:cNvSpPr/>
            <p:nvPr/>
          </p:nvSpPr>
          <p:spPr>
            <a:xfrm>
              <a:off x="6772320" y="6000840"/>
              <a:ext cx="2857320" cy="105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o idea, since we do not know all children of Bill.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566" name="Group 20"/>
          <p:cNvGrpSpPr/>
          <p:nvPr/>
        </p:nvGrpSpPr>
        <p:grpSpPr>
          <a:xfrm>
            <a:off x="9739440" y="5794200"/>
            <a:ext cx="3184200" cy="1538280"/>
            <a:chOff x="9739440" y="5794200"/>
            <a:chExt cx="3184200" cy="1538280"/>
          </a:xfrm>
        </p:grpSpPr>
        <p:sp>
          <p:nvSpPr>
            <p:cNvPr id="567" name="Rectangle 21"/>
            <p:cNvSpPr/>
            <p:nvPr/>
          </p:nvSpPr>
          <p:spPr>
            <a:xfrm>
              <a:off x="9739440" y="5794200"/>
              <a:ext cx="3184200" cy="1538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68" name="Rectangle 22"/>
            <p:cNvSpPr/>
            <p:nvPr/>
          </p:nvSpPr>
          <p:spPr>
            <a:xfrm>
              <a:off x="9739440" y="5794200"/>
              <a:ext cx="3176280" cy="14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f we assume that we know everything about Bill, then all of his children are male.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569" name="Line 23"/>
          <p:cNvSpPr/>
          <p:nvPr/>
        </p:nvSpPr>
        <p:spPr>
          <a:xfrm>
            <a:off x="520560" y="8766000"/>
            <a:ext cx="12078000" cy="18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570" name="Group 24"/>
          <p:cNvGrpSpPr/>
          <p:nvPr/>
        </p:nvGrpSpPr>
        <p:grpSpPr>
          <a:xfrm>
            <a:off x="725400" y="8766000"/>
            <a:ext cx="2870280" cy="615960"/>
            <a:chOff x="725400" y="8766000"/>
            <a:chExt cx="2870280" cy="615960"/>
          </a:xfrm>
        </p:grpSpPr>
        <p:sp>
          <p:nvSpPr>
            <p:cNvPr id="571" name="Rectangle 25"/>
            <p:cNvSpPr/>
            <p:nvPr/>
          </p:nvSpPr>
          <p:spPr>
            <a:xfrm>
              <a:off x="725400" y="8766000"/>
              <a:ext cx="2870280" cy="615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72" name="Rectangle 26"/>
            <p:cNvSpPr/>
            <p:nvPr/>
          </p:nvSpPr>
          <p:spPr>
            <a:xfrm>
              <a:off x="725400" y="8766000"/>
              <a:ext cx="28702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57960" tIns="0" bIns="0" anchor="t">
              <a:noAutofit/>
            </a:bodyPr>
            <a:p>
              <a:pPr marL="572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81d58"/>
                  </a:solidFill>
                  <a:latin typeface="Symbol"/>
                  <a:ea typeface="Symbol"/>
                </a:rPr>
                <a:t>≤</a:t>
              </a:r>
              <a:r>
                <a:rPr b="1" lang="en-US" sz="2800" spc="-1" strike="noStrike">
                  <a:solidFill>
                    <a:srgbClr val="081d58"/>
                  </a:solidFill>
                  <a:latin typeface="Arial"/>
                  <a:ea typeface="Arial"/>
                </a:rPr>
                <a:t> </a:t>
              </a:r>
              <a:r>
                <a:rPr b="1" lang="en-US" sz="2800" spc="-1" strike="noStrike">
                  <a:solidFill>
                    <a:srgbClr val="081d58"/>
                  </a:solidFill>
                  <a:latin typeface="Arial"/>
                  <a:ea typeface="Arial"/>
                </a:rPr>
                <a:t>1 child.T(Bill)</a:t>
              </a:r>
              <a:endParaRPr b="0" lang="en-US" sz="28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573" name="Rectangle 27"/>
          <p:cNvSpPr/>
          <p:nvPr/>
        </p:nvSpPr>
        <p:spPr>
          <a:xfrm>
            <a:off x="3695760" y="8867880"/>
            <a:ext cx="3898800" cy="62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t">
            <a:noAutofit/>
          </a:bodyPr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1d58"/>
                </a:solidFill>
                <a:latin typeface="Arial"/>
                <a:ea typeface="Arial"/>
              </a:rPr>
              <a:t>? </a:t>
            </a:r>
            <a:r>
              <a:rPr b="0" lang="en-US" sz="2800" spc="-1" strike="noStrike">
                <a:solidFill>
                  <a:srgbClr val="081d58"/>
                </a:solidFill>
                <a:latin typeface="msam10"/>
                <a:ea typeface="msam10"/>
              </a:rPr>
              <a:t>²</a:t>
            </a:r>
            <a:r>
              <a:rPr b="1" lang="en-US" sz="2800" spc="-1" strike="noStrike">
                <a:solidFill>
                  <a:srgbClr val="081d5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1d58"/>
                </a:solidFill>
                <a:latin typeface="Symbol"/>
                <a:ea typeface="Symbol"/>
              </a:rPr>
              <a:t>∀</a:t>
            </a:r>
            <a:r>
              <a:rPr b="1" lang="en-US" sz="2800" spc="-1" strike="noStrike">
                <a:solidFill>
                  <a:srgbClr val="081d58"/>
                </a:solidFill>
                <a:latin typeface="Arial"/>
                <a:ea typeface="Arial"/>
              </a:rPr>
              <a:t>child.Man(Bill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4" name="Rectangle 28"/>
          <p:cNvSpPr/>
          <p:nvPr/>
        </p:nvSpPr>
        <p:spPr>
          <a:xfrm>
            <a:off x="7486560" y="8866080"/>
            <a:ext cx="19558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t">
            <a:noAutofit/>
          </a:bodyPr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  <a:ea typeface="Arial"/>
              </a:rPr>
              <a:t>y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575" name="Group 29"/>
          <p:cNvGrpSpPr/>
          <p:nvPr/>
        </p:nvGrpSpPr>
        <p:grpSpPr>
          <a:xfrm>
            <a:off x="8920080" y="8867880"/>
            <a:ext cx="3784320" cy="819000"/>
            <a:chOff x="8920080" y="8867880"/>
            <a:chExt cx="3784320" cy="819000"/>
          </a:xfrm>
        </p:grpSpPr>
        <p:sp>
          <p:nvSpPr>
            <p:cNvPr id="576" name="Rectangle 30"/>
            <p:cNvSpPr/>
            <p:nvPr/>
          </p:nvSpPr>
          <p:spPr>
            <a:xfrm>
              <a:off x="8920080" y="8867880"/>
              <a:ext cx="3784320" cy="819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77" name="Rectangle 31"/>
            <p:cNvSpPr/>
            <p:nvPr/>
          </p:nvSpPr>
          <p:spPr>
            <a:xfrm>
              <a:off x="8926560" y="8867880"/>
              <a:ext cx="3773160" cy="69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ow we know everything about Bill’s children.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578" name="Rectangle 32"/>
          <p:cNvSpPr/>
          <p:nvPr/>
        </p:nvSpPr>
        <p:spPr>
          <a:xfrm>
            <a:off x="932040" y="2209680"/>
            <a:ext cx="11594880" cy="33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t">
            <a:noAutofit/>
          </a:bodyPr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WA: Open World Assumptio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ie Existenz von weiteren Individuen ist möglich, sofern si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icht explizit ausgeschlossen wird.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  <a:ea typeface="Arial"/>
              </a:rPr>
              <a:t>OWL verwendet OWA!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WA: Closed World Assumptio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s wird angenommen, dass die Wissensbasis alle Individue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nthält.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cover dir="r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000"/>
                            </p:stCondLst>
                            <p:childTnLst>
                              <p:par>
                                <p:cTn id="51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0807F-E007-499F-A8DA-8ECBD067BE10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Beschreibungslogik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ALC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WL als </a:t>
            </a:r>
            <a:r>
              <a:rPr b="0" lang="en-US" sz="42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SHOIN</a:t>
            </a: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(D)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cc0006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6"/>
                </a:solidFill>
                <a:latin typeface="Helvetica Neue"/>
              </a:rPr>
              <a:t>Inferenzprobleme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Tableau-Beweiser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C736D-506E-4328-BD4F-262A3679C1D2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Wichtige Inferenzprobleme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977760" y="2387160"/>
            <a:ext cx="1104912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382680" indent="-34308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lobale Konsistenz der Wissensbas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B </a:t>
            </a:r>
            <a:r>
              <a:rPr b="0" lang="en-US" sz="2400" spc="-1" strike="noStrike">
                <a:solidFill>
                  <a:srgbClr val="000000"/>
                </a:solidFill>
                <a:latin typeface="msam10"/>
                <a:ea typeface="msam10"/>
              </a:rPr>
              <a:t>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  <a:ea typeface="Arial"/>
              </a:rPr>
              <a:t>fal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st Wissensbasis sinnvoll?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lassenkonsistenz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  <a:ea typeface="cmsy10"/>
              </a:rPr>
              <a:t>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  <a:ea typeface="cmsy10"/>
              </a:rPr>
              <a:t>?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uss Klasse C leer sein?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lasseninklusion (Subsumption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  <a:ea typeface="cmsy10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D?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kturierung der Wissensbasis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lassenäquivalenz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  <a:ea typeface="cmsy10"/>
              </a:rPr>
              <a:t>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D?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ind zwei Klassen eigentlich dieselbe?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lassendisjunkthei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D =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  <a:ea typeface="cmsy10"/>
              </a:rPr>
              <a:t>?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ind zwei Klassen disjunkt?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lassenzugehörigkei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(a)?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st Individuum a in der Klasse C?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stanzgenerierung (Retrieval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„alle X mit C(X) finden“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nde alle (bekannten!) Individuen zur Klasse C.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EFD7E-BDE2-4579-88B9-897153E3ABA1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Entscheidbarkeit von OWL DL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977760" y="2387160"/>
            <a:ext cx="1104912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Entscheidbarkeit: zu jedem Inferenzproblem gibt es einen immer terminierenden Algorithmus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OWL DL ist Fragment von FOL, also könnten (im Prinzip) FOL-Inferenzalgorithmen (Resolution, Tableaux) verwendet werden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iese terminieren aber nicht immer!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Problem: Finde immer terminierende Algorithmen!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Keine „naiven“ Lösungen in Sicht!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DA140-F76B-454A-AC89-F2E509254A3E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Rückführung auf Unerfüllbarkeit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977760" y="2387160"/>
            <a:ext cx="1104912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Wir werden das Tableauverfahren für OWL DL abwandeln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Genauer: Wir werden nur </a:t>
            </a:r>
            <a:r>
              <a:rPr b="0" lang="en-US" sz="34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ALC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behandeln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Tableau- und Resolutionsverfahren zeigen Unerfüllbarkeit einer Theorie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!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Rückführung der Inferenzprobleme auf das Finden von Inkonsistenten in der Wissensbasis,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.h. zeigen der Unerfüllbarkeit der Wissensbasis!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3E910-10E8-4983-AD27-5E867AED136A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Rückführung auf Unerfüllbarkeit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977760" y="2387160"/>
            <a:ext cx="1104912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 fontScale="99000"/>
          </a:bodyPr>
          <a:p>
            <a:pPr marL="378720" indent="-3394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lassenkonsistenz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?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dw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74720" indent="-2829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B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[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{C(a)} unerfüllbar (a neu)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7872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lasseninklusion (Subsumption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dw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74720" indent="-2829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B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[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{C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(a)} unerfüllbar (a neu)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7872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lassenäquivalenz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dw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74720" indent="-2829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D und D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C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7872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lassendisjunkthei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D =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?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dw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74720" indent="-2829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B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[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{(C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D)(a)} unerfüllbar (a neu)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7872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lassenzugehörigkei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(a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dw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74720" indent="-2829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B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[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{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(a)} unerfüllbar (a neu)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7872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stanzgenerierung (Retrieval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   alle C(X) finden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74720" indent="-2829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rüfe Klassenzugehörigkeit für alle Individuen.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74720" indent="-2829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chwerer, dies gut zu implementieren!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A28D3-B029-41DD-8911-138A517D79D2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Beschreibungslogik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ALC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WL als </a:t>
            </a:r>
            <a:r>
              <a:rPr b="0" lang="en-US" sz="42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SHOIN</a:t>
            </a: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(D)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Inferenzprobleme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cc0006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6"/>
                </a:solidFill>
                <a:latin typeface="Helvetica Neue"/>
              </a:rPr>
              <a:t>Tableau-Beweiser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E3841-0349-4830-90DD-0957812B3C2F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Tableau - Transformation in NNF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977400" y="2387160"/>
            <a:ext cx="1126188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7081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Gegeben eine Wissensbasis W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708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708120" indent="-650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Ersetze C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´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D durch C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v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D und D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v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C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708120" indent="-650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Ersetze C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v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D durch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C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t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D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708120" indent="-650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Wende die Regeln auf der folgenden Folie an, bis es nicht mehr geht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708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708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Resultierende Wissensbasis: NNF(W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708120" indent="-650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Negationsnormalform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von W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708120" indent="-650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Negation steht nur noch direkt vor atomaren Klassen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B4BC2-FBCB-4C57-A2A7-6C851B370E8A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cc0006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6"/>
                </a:solidFill>
                <a:latin typeface="Helvetica Neue"/>
              </a:rPr>
              <a:t>Beschreibungslogik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ALC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WL als </a:t>
            </a:r>
            <a:r>
              <a:rPr b="0" lang="en-US" sz="42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SHOIN</a:t>
            </a: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(D)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Inferenzprobleme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Tableau-Beweiser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D4B2E-6295-4759-983C-A3C5FC9724B7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Tableau - Transformation in NNF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498320" y="1999800"/>
            <a:ext cx="11048760" cy="819324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NNF(C) = C, falls C atomar ist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NNF(</a:t>
            </a:r>
            <a:r>
              <a:rPr b="0" lang="en-US" sz="31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C) = </a:t>
            </a:r>
            <a:r>
              <a:rPr b="0" lang="en-US" sz="31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C, falls C atomar ist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NNF(</a:t>
            </a:r>
            <a:r>
              <a:rPr b="0" lang="en-US" sz="3100" spc="-1" strike="noStrike">
                <a:solidFill>
                  <a:srgbClr val="000000"/>
                </a:solidFill>
                <a:latin typeface="cmsy10"/>
                <a:ea typeface="cmsy10"/>
              </a:rPr>
              <a:t>::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C) = NNF(C) 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NNF(C </a:t>
            </a:r>
            <a:r>
              <a:rPr b="0" lang="en-US" sz="3100" spc="-1" strike="noStrike">
                <a:solidFill>
                  <a:srgbClr val="000000"/>
                </a:solidFill>
                <a:latin typeface="cmsy10"/>
                <a:ea typeface="cmsy10"/>
              </a:rPr>
              <a:t>t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 D) = NNF(C) </a:t>
            </a:r>
            <a:r>
              <a:rPr b="0" lang="en-US" sz="3100" spc="-1" strike="noStrike">
                <a:solidFill>
                  <a:srgbClr val="000000"/>
                </a:solidFill>
                <a:latin typeface="cmsy10"/>
                <a:ea typeface="cmsy10"/>
              </a:rPr>
              <a:t>t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 NNF(D)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NNF(C </a:t>
            </a:r>
            <a:r>
              <a:rPr b="0" lang="en-US" sz="31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 D) = NNF(C) </a:t>
            </a:r>
            <a:r>
              <a:rPr b="0" lang="en-US" sz="31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 NNF(D)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NNF(</a:t>
            </a:r>
            <a:r>
              <a:rPr b="0" lang="en-US" sz="31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(C </a:t>
            </a:r>
            <a:r>
              <a:rPr b="0" lang="en-US" sz="3100" spc="-1" strike="noStrike">
                <a:solidFill>
                  <a:srgbClr val="000000"/>
                </a:solidFill>
                <a:latin typeface="cmsy10"/>
                <a:ea typeface="cmsy10"/>
              </a:rPr>
              <a:t>t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 D)) = NNF(</a:t>
            </a:r>
            <a:r>
              <a:rPr b="0" lang="en-US" sz="31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C) </a:t>
            </a:r>
            <a:r>
              <a:rPr b="0" lang="en-US" sz="3100" spc="-1" strike="noStrike">
                <a:solidFill>
                  <a:srgbClr val="000000"/>
                </a:solidFill>
                <a:latin typeface="cmsy10"/>
                <a:ea typeface="cmsy10"/>
              </a:rPr>
              <a:t>u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NNF(</a:t>
            </a:r>
            <a:r>
              <a:rPr b="0" lang="en-US" sz="31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D)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NNF(</a:t>
            </a:r>
            <a:r>
              <a:rPr b="0" lang="en-US" sz="31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(C </a:t>
            </a:r>
            <a:r>
              <a:rPr b="0" lang="en-US" sz="31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 D)) = NNF(</a:t>
            </a:r>
            <a:r>
              <a:rPr b="0" lang="en-US" sz="31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C) </a:t>
            </a:r>
            <a:r>
              <a:rPr b="0" lang="en-US" sz="3100" spc="-1" strike="noStrike">
                <a:solidFill>
                  <a:srgbClr val="000000"/>
                </a:solidFill>
                <a:latin typeface="cmsy10"/>
                <a:ea typeface="cmsy10"/>
              </a:rPr>
              <a:t>t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NNF(</a:t>
            </a:r>
            <a:r>
              <a:rPr b="0" lang="en-US" sz="31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D)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NNF(</a:t>
            </a:r>
            <a:r>
              <a:rPr b="0" lang="en-US" sz="3100" spc="-1" strike="noStrike">
                <a:solidFill>
                  <a:srgbClr val="000000"/>
                </a:solidFill>
                <a:latin typeface="cmsy10"/>
                <a:ea typeface="cmsy10"/>
              </a:rPr>
              <a:t>8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R.C) = </a:t>
            </a:r>
            <a:r>
              <a:rPr b="0" lang="en-US" sz="3100" spc="-1" strike="noStrike">
                <a:solidFill>
                  <a:srgbClr val="000000"/>
                </a:solidFill>
                <a:latin typeface="cmsy10"/>
                <a:ea typeface="cmsy10"/>
              </a:rPr>
              <a:t>8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 R.NNF(C)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NNF(</a:t>
            </a:r>
            <a:r>
              <a:rPr b="0" lang="en-US" sz="3100" spc="-1" strike="noStrike">
                <a:solidFill>
                  <a:srgbClr val="000000"/>
                </a:solidFill>
                <a:latin typeface="cmsy10"/>
                <a:ea typeface="cmsy10"/>
              </a:rPr>
              <a:t>9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R.C) = </a:t>
            </a:r>
            <a:r>
              <a:rPr b="0" lang="en-US" sz="3100" spc="-1" strike="noStrike">
                <a:solidFill>
                  <a:srgbClr val="000000"/>
                </a:solidFill>
                <a:latin typeface="cmsy10"/>
                <a:ea typeface="cmsy10"/>
              </a:rPr>
              <a:t>9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 R.NNF(C)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NNF(</a:t>
            </a:r>
            <a:r>
              <a:rPr b="0" lang="en-US" sz="3100" spc="-1" strike="noStrike">
                <a:solidFill>
                  <a:srgbClr val="000000"/>
                </a:solidFill>
                <a:latin typeface="cmsy10"/>
                <a:ea typeface="cmsy10"/>
              </a:rPr>
              <a:t>:8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R.C) = </a:t>
            </a:r>
            <a:r>
              <a:rPr b="0" lang="en-US" sz="3100" spc="-1" strike="noStrike">
                <a:solidFill>
                  <a:srgbClr val="000000"/>
                </a:solidFill>
                <a:latin typeface="cmsy10"/>
                <a:ea typeface="cmsy10"/>
              </a:rPr>
              <a:t>9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R.NNF(</a:t>
            </a:r>
            <a:r>
              <a:rPr b="0" lang="en-US" sz="31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C)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NNF(</a:t>
            </a:r>
            <a:r>
              <a:rPr b="0" lang="en-US" sz="3100" spc="-1" strike="noStrike">
                <a:solidFill>
                  <a:srgbClr val="000000"/>
                </a:solidFill>
                <a:latin typeface="cmsy10"/>
                <a:ea typeface="cmsy10"/>
              </a:rPr>
              <a:t>:9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R.C) = </a:t>
            </a:r>
            <a:r>
              <a:rPr b="0" lang="en-US" sz="3100" spc="-1" strike="noStrike">
                <a:solidFill>
                  <a:srgbClr val="000000"/>
                </a:solidFill>
                <a:latin typeface="cmsy10"/>
                <a:ea typeface="cmsy10"/>
              </a:rPr>
              <a:t>8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R.NNF(</a:t>
            </a:r>
            <a:r>
              <a:rPr b="0" lang="en-US" sz="31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C)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W und NNF(W) sind logisch äquivalent.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A50F6-A4DE-45A7-B97F-78148508C145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Tableau - NNF - Beispiel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977760" y="2387160"/>
            <a:ext cx="1104912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544680" indent="-48744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P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v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(E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U)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t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E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t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D)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In Negationsnormalform: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P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t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(E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U)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t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(E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)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A370D-16C9-472A-B84B-60B431DCF80C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Naives Tableauverfahr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977400" y="2387160"/>
            <a:ext cx="1136340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Rückführung auf Unerfüllbarkeit/Widerspruch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Idee: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Gegeben Wissensbasis W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Erzeugen von Konsequenzen der Form C(a) und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C(a), bis Widerspruch gefunden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056BD-0F08-456F-B876-48E908C38D27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Tableau - einfaches Beispiel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977400" y="2387160"/>
            <a:ext cx="1136340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C(a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C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D)(a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C(a)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ist logische Konsequenz: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2. Formel in FOL: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C(a)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Æ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D(a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araus folgt u.a.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C(a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Widerspruch ist gefunden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7F238-E164-45B1-A06E-8D885E1549B1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Tableau - weiteres Beispiel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977760" y="2387160"/>
            <a:ext cx="1104912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59832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C(a)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C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t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D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(a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983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983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Ableitung von Konsequenzen: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983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C(a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983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(a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983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C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t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D)(a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983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Nun Fallunterscheidung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983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1.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C(a)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Widerspruch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983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2. D(a)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Widerspruch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15" name="Rectangle 3"/>
          <p:cNvSpPr/>
          <p:nvPr/>
        </p:nvSpPr>
        <p:spPr>
          <a:xfrm>
            <a:off x="6383160" y="8358120"/>
            <a:ext cx="58536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57960" tIns="0" bIns="0" anchor="t">
            <a:spAutoFit/>
          </a:bodyPr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eilen des Tableaus in zwei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Zwei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cover dir="r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276E7-729D-4407-B7F1-44B54CBC9594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Tableau - Definition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977760" y="2387160"/>
            <a:ext cx="1104912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Tableauzweig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Endliche Menge von Aussagen der Form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C(a),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C(a), R(a,b)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Tableau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: Endliche Menge von Tableauzweigen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Tableauzweig ist </a:t>
            </a:r>
            <a:r>
              <a:rPr b="0" i="1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abgeschlossen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wenn er ein Paar widersprüchlicher Aussgen C(a) und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C(a) enthält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Tableau ist </a:t>
            </a:r>
            <a:r>
              <a:rPr b="0" i="1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abgeschlossen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, wenn jeder Zweig von ihm abgeschlossen ist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381EE-50A0-4C55-AD9C-1697305E8284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Tableau - Erzeugung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766440" y="5900760"/>
            <a:ext cx="11674440" cy="385272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544680" indent="-48744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Ist das resultierende Tableau abgeschlossen, so ist die ursprüngliche Wissensbasis unerfüllbar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Man wählt dabei immer nur solche Elemente aus, die auch wirklich zu neuen Elementen im Tableau führen. Ist dies nicht möglich, so terminiert der Algorithmus und die Wissensbasis ist erfüllbar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622" name="Picture 3" descr=""/>
          <p:cNvPicPr/>
          <p:nvPr/>
        </p:nvPicPr>
        <p:blipFill>
          <a:blip r:embed="rId1"/>
          <a:stretch/>
        </p:blipFill>
        <p:spPr>
          <a:xfrm>
            <a:off x="1449360" y="2019240"/>
            <a:ext cx="11328480" cy="361944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07E36-DDA0-4069-B3CE-FD94A9BB9C8F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Tableau - Beispiel (1/2)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977760" y="2387160"/>
            <a:ext cx="1104912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P … Professor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E … Person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U … Universitätsangehöriger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 … Doktorand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Wissensbasis: P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v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(E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U)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t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(E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)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Ist P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v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E logische Konsequenz?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Wissensbasis (mit Anfrage) in NNF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{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P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t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(E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U)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t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(E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), (P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E)(a)}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43A66-A9B2-41FC-AABA-6BDF4B1E46EC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Tableau - Beispiel (2/2)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1593720" y="2046240"/>
            <a:ext cx="11049120" cy="622944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TBox: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P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t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(E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U)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t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(E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Tableau: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(P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E)(a) 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(aus Wissensbasis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P(a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E(a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P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t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(E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U)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t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(E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))(a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29" name="Rectangle 3"/>
          <p:cNvSpPr/>
          <p:nvPr/>
        </p:nvSpPr>
        <p:spPr>
          <a:xfrm>
            <a:off x="976320" y="5938920"/>
            <a:ext cx="1638360" cy="62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t">
            <a:noAutofit/>
          </a:bodyPr>
          <a:p>
            <a:pPr marL="544680" indent="-487440">
              <a:lnSpc>
                <a:spcPct val="100000"/>
              </a:lnSpc>
              <a:spcBef>
                <a:spcPts val="7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cc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cc0000"/>
                </a:solidFill>
                <a:latin typeface="Arial"/>
                <a:ea typeface="Arial"/>
              </a:rPr>
              <a:t>P(a)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0" name="Rectangle 4"/>
          <p:cNvSpPr/>
          <p:nvPr/>
        </p:nvSpPr>
        <p:spPr>
          <a:xfrm>
            <a:off x="5483160" y="5938920"/>
            <a:ext cx="5423040" cy="62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t">
            <a:noAutofit/>
          </a:bodyPr>
          <a:p>
            <a:pPr marL="544680" indent="-487440">
              <a:lnSpc>
                <a:spcPct val="10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((E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U)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t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(E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))(a)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1" name="Rectangle 5"/>
          <p:cNvSpPr/>
          <p:nvPr/>
        </p:nvSpPr>
        <p:spPr>
          <a:xfrm>
            <a:off x="8862840" y="6757920"/>
            <a:ext cx="28702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t">
            <a:noAutofit/>
          </a:bodyPr>
          <a:p>
            <a:pPr marL="544680" indent="-487440">
              <a:lnSpc>
                <a:spcPct val="10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(E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)(a)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marL="544680" indent="-487440">
              <a:lnSpc>
                <a:spcPct val="10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cc0000"/>
                </a:solidFill>
                <a:latin typeface="Arial"/>
                <a:ea typeface="Arial"/>
              </a:rPr>
              <a:t>E(a)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marL="544680" indent="-487440">
              <a:lnSpc>
                <a:spcPct val="100000"/>
              </a:lnSpc>
              <a:spcBef>
                <a:spcPts val="7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(a)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2" name="Rectangle 6"/>
          <p:cNvSpPr/>
          <p:nvPr/>
        </p:nvSpPr>
        <p:spPr>
          <a:xfrm>
            <a:off x="4662360" y="6757920"/>
            <a:ext cx="2260800" cy="180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t">
            <a:noAutofit/>
          </a:bodyPr>
          <a:p>
            <a:pPr marL="544680" indent="-487440">
              <a:lnSpc>
                <a:spcPct val="10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(E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U)(a)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marL="544680" indent="-487440">
              <a:lnSpc>
                <a:spcPct val="10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cc0000"/>
                </a:solidFill>
                <a:latin typeface="Arial"/>
                <a:ea typeface="Arial"/>
              </a:rPr>
              <a:t>E(a)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marL="544680" indent="-487440">
              <a:lnSpc>
                <a:spcPct val="10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U(a)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3" name="Rectangle 7"/>
          <p:cNvSpPr/>
          <p:nvPr/>
        </p:nvSpPr>
        <p:spPr>
          <a:xfrm>
            <a:off x="1490760" y="8907480"/>
            <a:ext cx="1104876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t">
            <a:noAutofit/>
          </a:bodyPr>
          <a:p>
            <a:pPr marL="544680" indent="-487440">
              <a:lnSpc>
                <a:spcPct val="10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.h. Wissensbasis ist unerfüllbar, d.h. P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v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E.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cover dir="r"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500"/>
                            </p:stCondLst>
                            <p:childTnLst>
                              <p:par>
                                <p:cTn id="173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500"/>
                            </p:stCondLst>
                            <p:childTnLst>
                              <p:par>
                                <p:cTn id="180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59B2C-C082-48FC-8D36-06DE989E67A7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Tableau - Terminierungsproblem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5225760" y="1849320"/>
            <a:ext cx="11791800" cy="9273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 fontScale="99000"/>
          </a:bodyPr>
          <a:p>
            <a:pPr marL="3787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inziges Axiom: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erson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  <a:ea typeface="cmsy10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asParent.Person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1103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bzuleiten: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erson(Bill)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grpSp>
        <p:nvGrpSpPr>
          <p:cNvPr id="637" name="Group 3"/>
          <p:cNvGrpSpPr/>
          <p:nvPr/>
        </p:nvGrpSpPr>
        <p:grpSpPr>
          <a:xfrm>
            <a:off x="1584360" y="2620800"/>
            <a:ext cx="5638680" cy="512640"/>
            <a:chOff x="1584360" y="2620800"/>
            <a:chExt cx="5638680" cy="512640"/>
          </a:xfrm>
        </p:grpSpPr>
        <p:sp>
          <p:nvSpPr>
            <p:cNvPr id="638" name="Rectangle 4"/>
            <p:cNvSpPr/>
            <p:nvPr/>
          </p:nvSpPr>
          <p:spPr>
            <a:xfrm>
              <a:off x="1585800" y="2620800"/>
              <a:ext cx="5634360" cy="5126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39" name="Rectangle 5"/>
            <p:cNvSpPr/>
            <p:nvPr/>
          </p:nvSpPr>
          <p:spPr>
            <a:xfrm>
              <a:off x="1584360" y="2620800"/>
              <a:ext cx="5638680" cy="44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57960" tIns="0" bIns="0" anchor="t">
              <a:noAutofit/>
            </a:bodyPr>
            <a:p>
              <a:pPr marL="572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Person(Bill)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40" name="Group 6"/>
          <p:cNvGrpSpPr/>
          <p:nvPr/>
        </p:nvGrpSpPr>
        <p:grpSpPr>
          <a:xfrm>
            <a:off x="4145040" y="4157640"/>
            <a:ext cx="5333760" cy="927000"/>
            <a:chOff x="4145040" y="4157640"/>
            <a:chExt cx="5333760" cy="927000"/>
          </a:xfrm>
        </p:grpSpPr>
        <p:sp>
          <p:nvSpPr>
            <p:cNvPr id="641" name="Rectangle 7"/>
            <p:cNvSpPr/>
            <p:nvPr/>
          </p:nvSpPr>
          <p:spPr>
            <a:xfrm>
              <a:off x="4145040" y="4157640"/>
              <a:ext cx="5325840" cy="927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42" name="Rectangle 8"/>
            <p:cNvSpPr/>
            <p:nvPr/>
          </p:nvSpPr>
          <p:spPr>
            <a:xfrm>
              <a:off x="4145040" y="4157640"/>
              <a:ext cx="533376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2016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hasParent(Bill,x</a:t>
              </a:r>
              <a:r>
                <a:rPr b="1" lang="en-US" sz="2400" spc="-1" strike="noStrike" baseline="-20000">
                  <a:solidFill>
                    <a:srgbClr val="081d58"/>
                  </a:solidFill>
                  <a:latin typeface="Arial"/>
                  <a:ea typeface="Arial"/>
                </a:rPr>
                <a:t>1</a:t>
              </a:r>
              <a:r>
                <a:rPr b="1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Person(x</a:t>
              </a:r>
              <a:r>
                <a:rPr b="1" lang="en-US" sz="2400" spc="-1" strike="noStrike" baseline="-20000">
                  <a:solidFill>
                    <a:srgbClr val="081d58"/>
                  </a:solidFill>
                  <a:latin typeface="Arial"/>
                  <a:ea typeface="Arial"/>
                </a:rPr>
                <a:t>1</a:t>
              </a:r>
              <a:r>
                <a:rPr b="1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43" name="Group 9"/>
          <p:cNvGrpSpPr/>
          <p:nvPr/>
        </p:nvGrpSpPr>
        <p:grpSpPr>
          <a:xfrm>
            <a:off x="9470880" y="4254480"/>
            <a:ext cx="927000" cy="304920"/>
            <a:chOff x="9470880" y="4254480"/>
            <a:chExt cx="927000" cy="304920"/>
          </a:xfrm>
        </p:grpSpPr>
        <p:sp>
          <p:nvSpPr>
            <p:cNvPr id="644" name="Line 10"/>
            <p:cNvSpPr/>
            <p:nvPr/>
          </p:nvSpPr>
          <p:spPr>
            <a:xfrm flipH="1">
              <a:off x="9470880" y="4462560"/>
              <a:ext cx="509760" cy="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45" name="Rectangle 11"/>
            <p:cNvSpPr/>
            <p:nvPr/>
          </p:nvSpPr>
          <p:spPr>
            <a:xfrm>
              <a:off x="9978840" y="4254480"/>
              <a:ext cx="4190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81d58"/>
                  </a:solidFill>
                  <a:latin typeface="Symbol"/>
                  <a:ea typeface="Symbol"/>
                </a:rPr>
                <a:t>∃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46" name="Group 12"/>
          <p:cNvGrpSpPr/>
          <p:nvPr/>
        </p:nvGrpSpPr>
        <p:grpSpPr>
          <a:xfrm>
            <a:off x="1585800" y="3133800"/>
            <a:ext cx="5638680" cy="511200"/>
            <a:chOff x="1585800" y="3133800"/>
            <a:chExt cx="5638680" cy="511200"/>
          </a:xfrm>
        </p:grpSpPr>
        <p:sp>
          <p:nvSpPr>
            <p:cNvPr id="647" name="Rectangle 13"/>
            <p:cNvSpPr/>
            <p:nvPr/>
          </p:nvSpPr>
          <p:spPr>
            <a:xfrm>
              <a:off x="1585800" y="3133800"/>
              <a:ext cx="5634000" cy="511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48" name="Rectangle 14"/>
            <p:cNvSpPr/>
            <p:nvPr/>
          </p:nvSpPr>
          <p:spPr>
            <a:xfrm>
              <a:off x="1585800" y="3133800"/>
              <a:ext cx="563868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2016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sy10"/>
                  <a:ea typeface="cmsy10"/>
                </a:rPr>
                <a:t>:</a:t>
              </a:r>
              <a:r>
                <a:rPr b="1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Person </a:t>
              </a:r>
              <a:r>
                <a:rPr b="0" lang="en-US" sz="2400" spc="-1" strike="noStrike">
                  <a:solidFill>
                    <a:srgbClr val="081d58"/>
                  </a:solidFill>
                  <a:latin typeface="cmsy10"/>
                  <a:ea typeface="cmsy10"/>
                </a:rPr>
                <a:t>t</a:t>
              </a:r>
              <a:r>
                <a:rPr b="1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81d58"/>
                  </a:solidFill>
                  <a:latin typeface="Symbol"/>
                  <a:ea typeface="Symbol"/>
                </a:rPr>
                <a:t>∃</a:t>
              </a:r>
              <a:r>
                <a:rPr b="1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hasParent.Person(Bill)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49" name="Group 15"/>
          <p:cNvGrpSpPr/>
          <p:nvPr/>
        </p:nvGrpSpPr>
        <p:grpSpPr>
          <a:xfrm>
            <a:off x="1585800" y="3645000"/>
            <a:ext cx="2146320" cy="511200"/>
            <a:chOff x="1585800" y="3645000"/>
            <a:chExt cx="2146320" cy="511200"/>
          </a:xfrm>
        </p:grpSpPr>
        <p:sp>
          <p:nvSpPr>
            <p:cNvPr id="650" name="Rectangle 16"/>
            <p:cNvSpPr/>
            <p:nvPr/>
          </p:nvSpPr>
          <p:spPr>
            <a:xfrm>
              <a:off x="1585800" y="3645000"/>
              <a:ext cx="2146320" cy="511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51" name="Rectangle 17"/>
            <p:cNvSpPr/>
            <p:nvPr/>
          </p:nvSpPr>
          <p:spPr>
            <a:xfrm>
              <a:off x="1585800" y="3645000"/>
              <a:ext cx="21463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2016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sy10"/>
                  <a:ea typeface="cmsy10"/>
                </a:rPr>
                <a:t>:</a:t>
              </a:r>
              <a:r>
                <a:rPr b="1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Person(Bill)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52" name="Group 18"/>
          <p:cNvGrpSpPr/>
          <p:nvPr/>
        </p:nvGrpSpPr>
        <p:grpSpPr>
          <a:xfrm>
            <a:off x="4146480" y="3645000"/>
            <a:ext cx="5334120" cy="511200"/>
            <a:chOff x="4146480" y="3645000"/>
            <a:chExt cx="5334120" cy="511200"/>
          </a:xfrm>
        </p:grpSpPr>
        <p:sp>
          <p:nvSpPr>
            <p:cNvPr id="653" name="Rectangle 19"/>
            <p:cNvSpPr/>
            <p:nvPr/>
          </p:nvSpPr>
          <p:spPr>
            <a:xfrm>
              <a:off x="4146480" y="3645000"/>
              <a:ext cx="5334120" cy="511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54" name="Rectangle 20"/>
            <p:cNvSpPr/>
            <p:nvPr/>
          </p:nvSpPr>
          <p:spPr>
            <a:xfrm>
              <a:off x="4146480" y="3645000"/>
              <a:ext cx="53341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2016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81d58"/>
                  </a:solidFill>
                  <a:latin typeface="Symbol"/>
                  <a:ea typeface="Symbol"/>
                </a:rPr>
                <a:t>∃</a:t>
              </a:r>
              <a:r>
                <a:rPr b="1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hasParent.Person(Bill)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55" name="Group 21"/>
          <p:cNvGrpSpPr/>
          <p:nvPr/>
        </p:nvGrpSpPr>
        <p:grpSpPr>
          <a:xfrm>
            <a:off x="9472680" y="3645000"/>
            <a:ext cx="927000" cy="330120"/>
            <a:chOff x="9472680" y="3645000"/>
            <a:chExt cx="927000" cy="330120"/>
          </a:xfrm>
        </p:grpSpPr>
        <p:sp>
          <p:nvSpPr>
            <p:cNvPr id="656" name="Line 22"/>
            <p:cNvSpPr/>
            <p:nvPr/>
          </p:nvSpPr>
          <p:spPr>
            <a:xfrm flipH="1">
              <a:off x="9472680" y="3848040"/>
              <a:ext cx="50976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57" name="Rectangle 23"/>
            <p:cNvSpPr/>
            <p:nvPr/>
          </p:nvSpPr>
          <p:spPr>
            <a:xfrm>
              <a:off x="9980640" y="3645000"/>
              <a:ext cx="41904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81d58"/>
                  </a:solidFill>
                  <a:latin typeface="cmsy10"/>
                  <a:ea typeface="cmsy10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58" name="Group 24"/>
          <p:cNvGrpSpPr/>
          <p:nvPr/>
        </p:nvGrpSpPr>
        <p:grpSpPr>
          <a:xfrm>
            <a:off x="2200320" y="4157640"/>
            <a:ext cx="537840" cy="496440"/>
            <a:chOff x="2200320" y="4157640"/>
            <a:chExt cx="537840" cy="496440"/>
          </a:xfrm>
        </p:grpSpPr>
        <p:sp>
          <p:nvSpPr>
            <p:cNvPr id="659" name="AutoShape 25"/>
            <p:cNvSpPr/>
            <p:nvPr/>
          </p:nvSpPr>
          <p:spPr>
            <a:xfrm>
              <a:off x="2200320" y="4157640"/>
              <a:ext cx="537840" cy="496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60" name="AutoShape 26"/>
            <p:cNvSpPr/>
            <p:nvPr/>
          </p:nvSpPr>
          <p:spPr>
            <a:xfrm>
              <a:off x="2212920" y="4170240"/>
              <a:ext cx="511200" cy="471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61" name="AutoShape 27"/>
            <p:cNvSpPr/>
            <p:nvPr/>
          </p:nvSpPr>
          <p:spPr>
            <a:xfrm>
              <a:off x="2227320" y="4184640"/>
              <a:ext cx="484200" cy="44244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62" name="AutoShape 28"/>
            <p:cNvSpPr/>
            <p:nvPr/>
          </p:nvSpPr>
          <p:spPr>
            <a:xfrm>
              <a:off x="2265480" y="4281480"/>
              <a:ext cx="93600" cy="217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63" name="AutoShape 29"/>
            <p:cNvSpPr/>
            <p:nvPr/>
          </p:nvSpPr>
          <p:spPr>
            <a:xfrm>
              <a:off x="2365920" y="4286520"/>
              <a:ext cx="106200" cy="208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64" name="AutoShape 30"/>
            <p:cNvSpPr/>
            <p:nvPr/>
          </p:nvSpPr>
          <p:spPr>
            <a:xfrm>
              <a:off x="2478960" y="4281480"/>
              <a:ext cx="91800" cy="217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65" name="Line 31"/>
            <p:cNvSpPr/>
            <p:nvPr/>
          </p:nvSpPr>
          <p:spPr>
            <a:xfrm>
              <a:off x="2518560" y="4327920"/>
              <a:ext cx="14400" cy="1256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66" name="AutoShape 32"/>
            <p:cNvSpPr/>
            <p:nvPr/>
          </p:nvSpPr>
          <p:spPr>
            <a:xfrm>
              <a:off x="2582280" y="4286520"/>
              <a:ext cx="96840" cy="208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67" name="Line 33"/>
            <p:cNvSpPr/>
            <p:nvPr/>
          </p:nvSpPr>
          <p:spPr>
            <a:xfrm>
              <a:off x="2625120" y="4329360"/>
              <a:ext cx="14400" cy="619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68" name="Group 34"/>
          <p:cNvGrpSpPr/>
          <p:nvPr/>
        </p:nvGrpSpPr>
        <p:grpSpPr>
          <a:xfrm>
            <a:off x="3016080" y="5591160"/>
            <a:ext cx="1955880" cy="526680"/>
            <a:chOff x="3016080" y="5591160"/>
            <a:chExt cx="1955880" cy="526680"/>
          </a:xfrm>
        </p:grpSpPr>
        <p:sp>
          <p:nvSpPr>
            <p:cNvPr id="669" name="Rectangle 35"/>
            <p:cNvSpPr/>
            <p:nvPr/>
          </p:nvSpPr>
          <p:spPr>
            <a:xfrm>
              <a:off x="3019320" y="5591160"/>
              <a:ext cx="1942920" cy="526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70" name="Rectangle 36"/>
            <p:cNvSpPr/>
            <p:nvPr/>
          </p:nvSpPr>
          <p:spPr>
            <a:xfrm>
              <a:off x="3016080" y="5591160"/>
              <a:ext cx="1955880" cy="42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2016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sy10"/>
                  <a:ea typeface="cmsy10"/>
                </a:rPr>
                <a:t>:</a:t>
              </a:r>
              <a:r>
                <a:rPr b="1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Person(x</a:t>
              </a:r>
              <a:r>
                <a:rPr b="1" lang="en-US" sz="2400" spc="-1" strike="noStrike" baseline="-20000">
                  <a:solidFill>
                    <a:srgbClr val="081d58"/>
                  </a:solidFill>
                  <a:latin typeface="Arial"/>
                  <a:ea typeface="Arial"/>
                </a:rPr>
                <a:t>1</a:t>
              </a:r>
              <a:r>
                <a:rPr b="1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71" name="Group 37"/>
          <p:cNvGrpSpPr/>
          <p:nvPr/>
        </p:nvGrpSpPr>
        <p:grpSpPr>
          <a:xfrm>
            <a:off x="5375160" y="5591160"/>
            <a:ext cx="5638680" cy="526680"/>
            <a:chOff x="5375160" y="5591160"/>
            <a:chExt cx="5638680" cy="526680"/>
          </a:xfrm>
        </p:grpSpPr>
        <p:sp>
          <p:nvSpPr>
            <p:cNvPr id="672" name="Rectangle 38"/>
            <p:cNvSpPr/>
            <p:nvPr/>
          </p:nvSpPr>
          <p:spPr>
            <a:xfrm>
              <a:off x="5375160" y="5591160"/>
              <a:ext cx="5638680" cy="526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73" name="Rectangle 39"/>
            <p:cNvSpPr/>
            <p:nvPr/>
          </p:nvSpPr>
          <p:spPr>
            <a:xfrm>
              <a:off x="5375160" y="5591160"/>
              <a:ext cx="5638680" cy="42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2016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81d58"/>
                  </a:solidFill>
                  <a:latin typeface="Symbol"/>
                  <a:ea typeface="Symbol"/>
                </a:rPr>
                <a:t>∃</a:t>
              </a:r>
              <a:r>
                <a:rPr b="1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hasParent.Person(x</a:t>
              </a:r>
              <a:r>
                <a:rPr b="1" lang="en-US" sz="2400" spc="-1" strike="noStrike" baseline="-20000">
                  <a:solidFill>
                    <a:srgbClr val="081d58"/>
                  </a:solidFill>
                  <a:latin typeface="Arial"/>
                  <a:ea typeface="Arial"/>
                </a:rPr>
                <a:t>1</a:t>
              </a:r>
              <a:r>
                <a:rPr b="1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74" name="Group 40"/>
          <p:cNvGrpSpPr/>
          <p:nvPr/>
        </p:nvGrpSpPr>
        <p:grpSpPr>
          <a:xfrm>
            <a:off x="11010960" y="5605560"/>
            <a:ext cx="927000" cy="330120"/>
            <a:chOff x="11010960" y="5605560"/>
            <a:chExt cx="927000" cy="330120"/>
          </a:xfrm>
        </p:grpSpPr>
        <p:sp>
          <p:nvSpPr>
            <p:cNvPr id="675" name="Line 41"/>
            <p:cNvSpPr/>
            <p:nvPr/>
          </p:nvSpPr>
          <p:spPr>
            <a:xfrm flipH="1">
              <a:off x="11010960" y="5808600"/>
              <a:ext cx="5097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76" name="Rectangle 42"/>
            <p:cNvSpPr/>
            <p:nvPr/>
          </p:nvSpPr>
          <p:spPr>
            <a:xfrm>
              <a:off x="11518920" y="5605560"/>
              <a:ext cx="41904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81d58"/>
                  </a:solidFill>
                  <a:latin typeface="cmsy10"/>
                  <a:ea typeface="cmsy10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77" name="Group 43"/>
          <p:cNvGrpSpPr/>
          <p:nvPr/>
        </p:nvGrpSpPr>
        <p:grpSpPr>
          <a:xfrm>
            <a:off x="3429000" y="6118200"/>
            <a:ext cx="536400" cy="496440"/>
            <a:chOff x="3429000" y="6118200"/>
            <a:chExt cx="536400" cy="496440"/>
          </a:xfrm>
        </p:grpSpPr>
        <p:sp>
          <p:nvSpPr>
            <p:cNvPr id="678" name="AutoShape 44"/>
            <p:cNvSpPr/>
            <p:nvPr/>
          </p:nvSpPr>
          <p:spPr>
            <a:xfrm>
              <a:off x="3429000" y="6118200"/>
              <a:ext cx="536400" cy="496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79" name="AutoShape 45"/>
            <p:cNvSpPr/>
            <p:nvPr/>
          </p:nvSpPr>
          <p:spPr>
            <a:xfrm>
              <a:off x="3441600" y="6130800"/>
              <a:ext cx="509760" cy="471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80" name="AutoShape 46"/>
            <p:cNvSpPr/>
            <p:nvPr/>
          </p:nvSpPr>
          <p:spPr>
            <a:xfrm>
              <a:off x="3456000" y="6145200"/>
              <a:ext cx="482760" cy="44244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81" name="AutoShape 47"/>
            <p:cNvSpPr/>
            <p:nvPr/>
          </p:nvSpPr>
          <p:spPr>
            <a:xfrm>
              <a:off x="3494160" y="6242040"/>
              <a:ext cx="93600" cy="217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82" name="AutoShape 48"/>
            <p:cNvSpPr/>
            <p:nvPr/>
          </p:nvSpPr>
          <p:spPr>
            <a:xfrm>
              <a:off x="3594240" y="6247080"/>
              <a:ext cx="106200" cy="208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83" name="AutoShape 49"/>
            <p:cNvSpPr/>
            <p:nvPr/>
          </p:nvSpPr>
          <p:spPr>
            <a:xfrm>
              <a:off x="3706920" y="6242040"/>
              <a:ext cx="91800" cy="217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84" name="Line 50"/>
            <p:cNvSpPr/>
            <p:nvPr/>
          </p:nvSpPr>
          <p:spPr>
            <a:xfrm>
              <a:off x="3746520" y="6288480"/>
              <a:ext cx="14400" cy="1256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85" name="AutoShape 51"/>
            <p:cNvSpPr/>
            <p:nvPr/>
          </p:nvSpPr>
          <p:spPr>
            <a:xfrm>
              <a:off x="3809880" y="6247080"/>
              <a:ext cx="96840" cy="208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86" name="Line 52"/>
            <p:cNvSpPr/>
            <p:nvPr/>
          </p:nvSpPr>
          <p:spPr>
            <a:xfrm>
              <a:off x="3852720" y="6289920"/>
              <a:ext cx="14400" cy="619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87" name="Group 53"/>
          <p:cNvGrpSpPr/>
          <p:nvPr/>
        </p:nvGrpSpPr>
        <p:grpSpPr>
          <a:xfrm>
            <a:off x="5372280" y="6118200"/>
            <a:ext cx="5638680" cy="906480"/>
            <a:chOff x="5372280" y="6118200"/>
            <a:chExt cx="5638680" cy="906480"/>
          </a:xfrm>
        </p:grpSpPr>
        <p:sp>
          <p:nvSpPr>
            <p:cNvPr id="688" name="Rectangle 54"/>
            <p:cNvSpPr/>
            <p:nvPr/>
          </p:nvSpPr>
          <p:spPr>
            <a:xfrm>
              <a:off x="5373720" y="6118200"/>
              <a:ext cx="5634360" cy="906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89" name="Rectangle 55"/>
            <p:cNvSpPr/>
            <p:nvPr/>
          </p:nvSpPr>
          <p:spPr>
            <a:xfrm>
              <a:off x="5372280" y="6118200"/>
              <a:ext cx="56386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2016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hasParent(x</a:t>
              </a:r>
              <a:r>
                <a:rPr b="1" lang="en-US" sz="2400" spc="-1" strike="noStrike" baseline="-20000">
                  <a:solidFill>
                    <a:srgbClr val="081d58"/>
                  </a:solidFill>
                  <a:latin typeface="Arial"/>
                  <a:ea typeface="Arial"/>
                </a:rPr>
                <a:t>1</a:t>
              </a:r>
              <a:r>
                <a:rPr b="1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,x</a:t>
              </a:r>
              <a:r>
                <a:rPr b="1" lang="en-US" sz="2400" spc="-1" strike="noStrike" baseline="-20000">
                  <a:solidFill>
                    <a:srgbClr val="081d58"/>
                  </a:solidFill>
                  <a:latin typeface="Arial"/>
                  <a:ea typeface="Arial"/>
                </a:rPr>
                <a:t>2</a:t>
              </a:r>
              <a:r>
                <a:rPr b="1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Person(x</a:t>
              </a:r>
              <a:r>
                <a:rPr b="1" lang="en-US" sz="2400" spc="-1" strike="noStrike" baseline="-20000">
                  <a:solidFill>
                    <a:srgbClr val="081d58"/>
                  </a:solidFill>
                  <a:latin typeface="Arial"/>
                  <a:ea typeface="Arial"/>
                </a:rPr>
                <a:t>2</a:t>
              </a:r>
              <a:r>
                <a:rPr b="1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90" name="Group 56"/>
          <p:cNvGrpSpPr/>
          <p:nvPr/>
        </p:nvGrpSpPr>
        <p:grpSpPr>
          <a:xfrm>
            <a:off x="11007720" y="6219720"/>
            <a:ext cx="927000" cy="304920"/>
            <a:chOff x="11007720" y="6219720"/>
            <a:chExt cx="927000" cy="304920"/>
          </a:xfrm>
        </p:grpSpPr>
        <p:sp>
          <p:nvSpPr>
            <p:cNvPr id="691" name="Line 57"/>
            <p:cNvSpPr/>
            <p:nvPr/>
          </p:nvSpPr>
          <p:spPr>
            <a:xfrm flipH="1">
              <a:off x="11007720" y="6422760"/>
              <a:ext cx="5097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92" name="Rectangle 58"/>
            <p:cNvSpPr/>
            <p:nvPr/>
          </p:nvSpPr>
          <p:spPr>
            <a:xfrm>
              <a:off x="11515680" y="6219720"/>
              <a:ext cx="4190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81d58"/>
                  </a:solidFill>
                  <a:latin typeface="Symbol"/>
                  <a:ea typeface="Symbol"/>
                </a:rPr>
                <a:t>∃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93" name="Group 59"/>
          <p:cNvGrpSpPr/>
          <p:nvPr/>
        </p:nvGrpSpPr>
        <p:grpSpPr>
          <a:xfrm>
            <a:off x="4143240" y="7535880"/>
            <a:ext cx="1955880" cy="528120"/>
            <a:chOff x="4143240" y="7535880"/>
            <a:chExt cx="1955880" cy="528120"/>
          </a:xfrm>
        </p:grpSpPr>
        <p:sp>
          <p:nvSpPr>
            <p:cNvPr id="694" name="Rectangle 60"/>
            <p:cNvSpPr/>
            <p:nvPr/>
          </p:nvSpPr>
          <p:spPr>
            <a:xfrm>
              <a:off x="4146480" y="7535880"/>
              <a:ext cx="1942920" cy="52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95" name="Rectangle 61"/>
            <p:cNvSpPr/>
            <p:nvPr/>
          </p:nvSpPr>
          <p:spPr>
            <a:xfrm>
              <a:off x="4143240" y="7535880"/>
              <a:ext cx="1955880" cy="42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2016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sy10"/>
                  <a:ea typeface="cmsy10"/>
                </a:rPr>
                <a:t>:</a:t>
              </a:r>
              <a:r>
                <a:rPr b="1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Person(x</a:t>
              </a:r>
              <a:r>
                <a:rPr b="1" lang="en-US" sz="2400" spc="-1" strike="noStrike" baseline="-20000">
                  <a:solidFill>
                    <a:srgbClr val="081d58"/>
                  </a:solidFill>
                  <a:latin typeface="Arial"/>
                  <a:ea typeface="Arial"/>
                </a:rPr>
                <a:t>2</a:t>
              </a:r>
              <a:r>
                <a:rPr b="1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96" name="Group 62"/>
          <p:cNvGrpSpPr/>
          <p:nvPr/>
        </p:nvGrpSpPr>
        <p:grpSpPr>
          <a:xfrm>
            <a:off x="6497640" y="7535880"/>
            <a:ext cx="3898800" cy="528120"/>
            <a:chOff x="6497640" y="7535880"/>
            <a:chExt cx="3898800" cy="528120"/>
          </a:xfrm>
        </p:grpSpPr>
        <p:sp>
          <p:nvSpPr>
            <p:cNvPr id="697" name="Rectangle 63"/>
            <p:cNvSpPr/>
            <p:nvPr/>
          </p:nvSpPr>
          <p:spPr>
            <a:xfrm>
              <a:off x="6500880" y="7535880"/>
              <a:ext cx="3892320" cy="52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98" name="Rectangle 64"/>
            <p:cNvSpPr/>
            <p:nvPr/>
          </p:nvSpPr>
          <p:spPr>
            <a:xfrm>
              <a:off x="6497640" y="7535880"/>
              <a:ext cx="3898800" cy="42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2016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81d58"/>
                  </a:solidFill>
                  <a:latin typeface="Symbol"/>
                  <a:ea typeface="Symbol"/>
                </a:rPr>
                <a:t>∃</a:t>
              </a:r>
              <a:r>
                <a:rPr b="1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hasParent.Person(x</a:t>
              </a:r>
              <a:r>
                <a:rPr b="1" lang="en-US" sz="2400" spc="-1" strike="noStrike" baseline="-20000">
                  <a:solidFill>
                    <a:srgbClr val="081d58"/>
                  </a:solidFill>
                  <a:latin typeface="Arial"/>
                  <a:ea typeface="Arial"/>
                </a:rPr>
                <a:t>2</a:t>
              </a:r>
              <a:r>
                <a:rPr b="1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99" name="Group 65"/>
          <p:cNvGrpSpPr/>
          <p:nvPr/>
        </p:nvGrpSpPr>
        <p:grpSpPr>
          <a:xfrm>
            <a:off x="10393200" y="7551720"/>
            <a:ext cx="927000" cy="330120"/>
            <a:chOff x="10393200" y="7551720"/>
            <a:chExt cx="927000" cy="330120"/>
          </a:xfrm>
        </p:grpSpPr>
        <p:sp>
          <p:nvSpPr>
            <p:cNvPr id="700" name="Line 66"/>
            <p:cNvSpPr/>
            <p:nvPr/>
          </p:nvSpPr>
          <p:spPr>
            <a:xfrm flipH="1">
              <a:off x="10393200" y="7754760"/>
              <a:ext cx="5097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01" name="Rectangle 67"/>
            <p:cNvSpPr/>
            <p:nvPr/>
          </p:nvSpPr>
          <p:spPr>
            <a:xfrm>
              <a:off x="10901160" y="7551720"/>
              <a:ext cx="41904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81d58"/>
                  </a:solidFill>
                  <a:latin typeface="cmsy10"/>
                  <a:ea typeface="cmsy10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702" name="Group 68"/>
          <p:cNvGrpSpPr/>
          <p:nvPr/>
        </p:nvGrpSpPr>
        <p:grpSpPr>
          <a:xfrm>
            <a:off x="4556160" y="8064360"/>
            <a:ext cx="536400" cy="496800"/>
            <a:chOff x="4556160" y="8064360"/>
            <a:chExt cx="536400" cy="496800"/>
          </a:xfrm>
        </p:grpSpPr>
        <p:sp>
          <p:nvSpPr>
            <p:cNvPr id="703" name="AutoShape 69"/>
            <p:cNvSpPr/>
            <p:nvPr/>
          </p:nvSpPr>
          <p:spPr>
            <a:xfrm>
              <a:off x="4556160" y="8064360"/>
              <a:ext cx="536400" cy="496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04" name="AutoShape 70"/>
            <p:cNvSpPr/>
            <p:nvPr/>
          </p:nvSpPr>
          <p:spPr>
            <a:xfrm>
              <a:off x="4568760" y="8076960"/>
              <a:ext cx="509760" cy="471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05" name="AutoShape 71"/>
            <p:cNvSpPr/>
            <p:nvPr/>
          </p:nvSpPr>
          <p:spPr>
            <a:xfrm>
              <a:off x="4583160" y="8091360"/>
              <a:ext cx="482760" cy="44280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06" name="AutoShape 72"/>
            <p:cNvSpPr/>
            <p:nvPr/>
          </p:nvSpPr>
          <p:spPr>
            <a:xfrm>
              <a:off x="4621320" y="8188560"/>
              <a:ext cx="93600" cy="218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07" name="AutoShape 73"/>
            <p:cNvSpPr/>
            <p:nvPr/>
          </p:nvSpPr>
          <p:spPr>
            <a:xfrm>
              <a:off x="4721400" y="8193240"/>
              <a:ext cx="106200" cy="208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08" name="AutoShape 74"/>
            <p:cNvSpPr/>
            <p:nvPr/>
          </p:nvSpPr>
          <p:spPr>
            <a:xfrm>
              <a:off x="4834080" y="8188560"/>
              <a:ext cx="91800" cy="218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09" name="Line 75"/>
            <p:cNvSpPr/>
            <p:nvPr/>
          </p:nvSpPr>
          <p:spPr>
            <a:xfrm>
              <a:off x="4873680" y="8234640"/>
              <a:ext cx="14400" cy="1256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10" name="AutoShape 76"/>
            <p:cNvSpPr/>
            <p:nvPr/>
          </p:nvSpPr>
          <p:spPr>
            <a:xfrm>
              <a:off x="4937040" y="8193240"/>
              <a:ext cx="96840" cy="208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11" name="Line 77"/>
            <p:cNvSpPr/>
            <p:nvPr/>
          </p:nvSpPr>
          <p:spPr>
            <a:xfrm>
              <a:off x="4979880" y="8236080"/>
              <a:ext cx="14400" cy="619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712" name="Group 78"/>
          <p:cNvGrpSpPr/>
          <p:nvPr/>
        </p:nvGrpSpPr>
        <p:grpSpPr>
          <a:xfrm>
            <a:off x="4146480" y="5079960"/>
            <a:ext cx="5334120" cy="511200"/>
            <a:chOff x="4146480" y="5079960"/>
            <a:chExt cx="5334120" cy="511200"/>
          </a:xfrm>
        </p:grpSpPr>
        <p:sp>
          <p:nvSpPr>
            <p:cNvPr id="713" name="Rectangle 79"/>
            <p:cNvSpPr/>
            <p:nvPr/>
          </p:nvSpPr>
          <p:spPr>
            <a:xfrm>
              <a:off x="4146480" y="5079960"/>
              <a:ext cx="5334120" cy="511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14" name="Rectangle 80"/>
            <p:cNvSpPr/>
            <p:nvPr/>
          </p:nvSpPr>
          <p:spPr>
            <a:xfrm>
              <a:off x="4146480" y="5079960"/>
              <a:ext cx="5334120" cy="4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2016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sy10"/>
                  <a:ea typeface="cmsy10"/>
                </a:rPr>
                <a:t>:</a:t>
              </a:r>
              <a:r>
                <a:rPr b="1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Person </a:t>
              </a:r>
              <a:r>
                <a:rPr b="0" lang="en-US" sz="2400" spc="-1" strike="noStrike">
                  <a:solidFill>
                    <a:srgbClr val="081d58"/>
                  </a:solidFill>
                  <a:latin typeface="cmsy10"/>
                  <a:ea typeface="cmsy10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81d58"/>
                  </a:solidFill>
                  <a:latin typeface="Symbol"/>
                  <a:ea typeface="Symbol"/>
                </a:rPr>
                <a:t>∃</a:t>
              </a:r>
              <a:r>
                <a:rPr b="1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hasParent.Person(x</a:t>
              </a:r>
              <a:r>
                <a:rPr b="1" lang="en-US" sz="2400" spc="-1" strike="noStrike" baseline="-20000">
                  <a:solidFill>
                    <a:srgbClr val="081d58"/>
                  </a:solidFill>
                  <a:latin typeface="Arial"/>
                  <a:ea typeface="Arial"/>
                </a:rPr>
                <a:t>1</a:t>
              </a:r>
              <a:r>
                <a:rPr b="1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715" name="Group 81"/>
          <p:cNvGrpSpPr/>
          <p:nvPr/>
        </p:nvGrpSpPr>
        <p:grpSpPr>
          <a:xfrm>
            <a:off x="5375160" y="7024680"/>
            <a:ext cx="5638680" cy="512280"/>
            <a:chOff x="5375160" y="7024680"/>
            <a:chExt cx="5638680" cy="512280"/>
          </a:xfrm>
        </p:grpSpPr>
        <p:sp>
          <p:nvSpPr>
            <p:cNvPr id="716" name="Rectangle 82"/>
            <p:cNvSpPr/>
            <p:nvPr/>
          </p:nvSpPr>
          <p:spPr>
            <a:xfrm>
              <a:off x="5375160" y="7024680"/>
              <a:ext cx="5638680" cy="512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17" name="Rectangle 83"/>
            <p:cNvSpPr/>
            <p:nvPr/>
          </p:nvSpPr>
          <p:spPr>
            <a:xfrm>
              <a:off x="5375160" y="7024680"/>
              <a:ext cx="5638680" cy="42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2016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sy10"/>
                  <a:ea typeface="cmsy10"/>
                </a:rPr>
                <a:t>:</a:t>
              </a:r>
              <a:r>
                <a:rPr b="1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Person </a:t>
              </a:r>
              <a:r>
                <a:rPr b="0" lang="en-US" sz="2400" spc="-1" strike="noStrike">
                  <a:solidFill>
                    <a:srgbClr val="081d58"/>
                  </a:solidFill>
                  <a:latin typeface="cmsy10"/>
                  <a:ea typeface="cmsy10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81d58"/>
                  </a:solidFill>
                  <a:latin typeface="Symbol"/>
                  <a:ea typeface="Symbol"/>
                </a:rPr>
                <a:t>∃</a:t>
              </a:r>
              <a:r>
                <a:rPr b="1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hasParent.Person(x</a:t>
              </a:r>
              <a:r>
                <a:rPr b="1" lang="en-US" sz="2400" spc="-1" strike="noStrike" baseline="-20000">
                  <a:solidFill>
                    <a:srgbClr val="081d58"/>
                  </a:solidFill>
                  <a:latin typeface="Arial"/>
                  <a:ea typeface="Arial"/>
                </a:rPr>
                <a:t>2</a:t>
              </a:r>
              <a:r>
                <a:rPr b="1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718" name="Group 84"/>
          <p:cNvGrpSpPr/>
          <p:nvPr/>
        </p:nvGrpSpPr>
        <p:grpSpPr>
          <a:xfrm>
            <a:off x="8143920" y="8064360"/>
            <a:ext cx="1395360" cy="1622160"/>
            <a:chOff x="8143920" y="8064360"/>
            <a:chExt cx="1395360" cy="1622160"/>
          </a:xfrm>
        </p:grpSpPr>
        <p:sp>
          <p:nvSpPr>
            <p:cNvPr id="719" name="AutoShape 85"/>
            <p:cNvSpPr/>
            <p:nvPr/>
          </p:nvSpPr>
          <p:spPr>
            <a:xfrm>
              <a:off x="8169480" y="9548640"/>
              <a:ext cx="75960" cy="125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20" name="AutoShape 86"/>
            <p:cNvSpPr/>
            <p:nvPr/>
          </p:nvSpPr>
          <p:spPr>
            <a:xfrm>
              <a:off x="8143920" y="8064360"/>
              <a:ext cx="1395360" cy="1622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21" name="AutoShape 87"/>
            <p:cNvSpPr/>
            <p:nvPr/>
          </p:nvSpPr>
          <p:spPr>
            <a:xfrm>
              <a:off x="8159760" y="8080200"/>
              <a:ext cx="95400" cy="58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22" name="AutoShape 88"/>
            <p:cNvSpPr/>
            <p:nvPr/>
          </p:nvSpPr>
          <p:spPr>
            <a:xfrm>
              <a:off x="8242200" y="8100720"/>
              <a:ext cx="20880" cy="38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23" name="AutoShape 89"/>
            <p:cNvSpPr/>
            <p:nvPr/>
          </p:nvSpPr>
          <p:spPr>
            <a:xfrm>
              <a:off x="8172360" y="8154720"/>
              <a:ext cx="84240" cy="25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24" name="AutoShape 90"/>
            <p:cNvSpPr/>
            <p:nvPr/>
          </p:nvSpPr>
          <p:spPr>
            <a:xfrm>
              <a:off x="8190000" y="8196120"/>
              <a:ext cx="36360" cy="84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25" name="Line 91"/>
            <p:cNvSpPr/>
            <p:nvPr/>
          </p:nvSpPr>
          <p:spPr>
            <a:xfrm>
              <a:off x="8231400" y="8197560"/>
              <a:ext cx="7920" cy="637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26" name="AutoShape 92"/>
            <p:cNvSpPr/>
            <p:nvPr/>
          </p:nvSpPr>
          <p:spPr>
            <a:xfrm>
              <a:off x="8177400" y="8273880"/>
              <a:ext cx="1334880" cy="1274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27" name="AutoShape 93"/>
            <p:cNvSpPr/>
            <p:nvPr/>
          </p:nvSpPr>
          <p:spPr>
            <a:xfrm>
              <a:off x="8190000" y="8343720"/>
              <a:ext cx="36360" cy="136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28" name="Line 94"/>
            <p:cNvSpPr/>
            <p:nvPr/>
          </p:nvSpPr>
          <p:spPr>
            <a:xfrm>
              <a:off x="8229600" y="8346960"/>
              <a:ext cx="7920" cy="1062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29" name="AutoShape 95"/>
            <p:cNvSpPr/>
            <p:nvPr/>
          </p:nvSpPr>
          <p:spPr>
            <a:xfrm>
              <a:off x="8626680" y="8421840"/>
              <a:ext cx="396720" cy="473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30" name="Line 96"/>
            <p:cNvSpPr/>
            <p:nvPr/>
          </p:nvSpPr>
          <p:spPr>
            <a:xfrm>
              <a:off x="8236080" y="8456760"/>
              <a:ext cx="3240" cy="19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31" name="AutoShape 97"/>
            <p:cNvSpPr/>
            <p:nvPr/>
          </p:nvSpPr>
          <p:spPr>
            <a:xfrm>
              <a:off x="8190000" y="8542440"/>
              <a:ext cx="34920" cy="125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32" name="Line 98"/>
            <p:cNvSpPr/>
            <p:nvPr/>
          </p:nvSpPr>
          <p:spPr>
            <a:xfrm>
              <a:off x="8232840" y="8561520"/>
              <a:ext cx="6480" cy="525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33" name="Rectangle 99"/>
            <p:cNvSpPr/>
            <p:nvPr/>
          </p:nvSpPr>
          <p:spPr>
            <a:xfrm>
              <a:off x="8239320" y="8609400"/>
              <a:ext cx="144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34" name="Line 100"/>
            <p:cNvSpPr/>
            <p:nvPr/>
          </p:nvSpPr>
          <p:spPr>
            <a:xfrm>
              <a:off x="8234280" y="8622000"/>
              <a:ext cx="5040" cy="252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35" name="AutoShape 101"/>
            <p:cNvSpPr/>
            <p:nvPr/>
          </p:nvSpPr>
          <p:spPr>
            <a:xfrm>
              <a:off x="8672400" y="8633160"/>
              <a:ext cx="125640" cy="141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36" name="AutoShape 102"/>
            <p:cNvSpPr/>
            <p:nvPr/>
          </p:nvSpPr>
          <p:spPr>
            <a:xfrm>
              <a:off x="8850240" y="8642520"/>
              <a:ext cx="122400" cy="144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37" name="AutoShape 103"/>
            <p:cNvSpPr/>
            <p:nvPr/>
          </p:nvSpPr>
          <p:spPr>
            <a:xfrm>
              <a:off x="8190000" y="8725320"/>
              <a:ext cx="34920" cy="113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38" name="AutoShape 104"/>
            <p:cNvSpPr/>
            <p:nvPr/>
          </p:nvSpPr>
          <p:spPr>
            <a:xfrm>
              <a:off x="8796240" y="8731800"/>
              <a:ext cx="54000" cy="100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39" name="Line 105"/>
            <p:cNvSpPr/>
            <p:nvPr/>
          </p:nvSpPr>
          <p:spPr>
            <a:xfrm>
              <a:off x="8234280" y="8731800"/>
              <a:ext cx="5040" cy="903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40" name="AutoShape 106"/>
            <p:cNvSpPr/>
            <p:nvPr/>
          </p:nvSpPr>
          <p:spPr>
            <a:xfrm>
              <a:off x="9136080" y="8781120"/>
              <a:ext cx="211320" cy="204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41" name="AutoShape 107"/>
            <p:cNvSpPr/>
            <p:nvPr/>
          </p:nvSpPr>
          <p:spPr>
            <a:xfrm>
              <a:off x="8400960" y="8825400"/>
              <a:ext cx="416160" cy="312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42" name="AutoShape 108"/>
            <p:cNvSpPr/>
            <p:nvPr/>
          </p:nvSpPr>
          <p:spPr>
            <a:xfrm>
              <a:off x="8696520" y="8843040"/>
              <a:ext cx="274320" cy="131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43" name="AutoShape 109"/>
            <p:cNvSpPr/>
            <p:nvPr/>
          </p:nvSpPr>
          <p:spPr>
            <a:xfrm>
              <a:off x="9256680" y="8858880"/>
              <a:ext cx="28800" cy="44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44" name="AutoShape 110"/>
            <p:cNvSpPr/>
            <p:nvPr/>
          </p:nvSpPr>
          <p:spPr>
            <a:xfrm>
              <a:off x="8190000" y="8900280"/>
              <a:ext cx="36360" cy="109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45" name="Line 111"/>
            <p:cNvSpPr/>
            <p:nvPr/>
          </p:nvSpPr>
          <p:spPr>
            <a:xfrm>
              <a:off x="8231400" y="8908200"/>
              <a:ext cx="7920" cy="968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46" name="AutoShape 112"/>
            <p:cNvSpPr/>
            <p:nvPr/>
          </p:nvSpPr>
          <p:spPr>
            <a:xfrm>
              <a:off x="9042480" y="8922240"/>
              <a:ext cx="123840" cy="111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47" name="AutoShape 113"/>
            <p:cNvSpPr/>
            <p:nvPr/>
          </p:nvSpPr>
          <p:spPr>
            <a:xfrm>
              <a:off x="8440920" y="8963640"/>
              <a:ext cx="118800" cy="46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48" name="AutoShape 114"/>
            <p:cNvSpPr/>
            <p:nvPr/>
          </p:nvSpPr>
          <p:spPr>
            <a:xfrm>
              <a:off x="9094680" y="8974800"/>
              <a:ext cx="376560" cy="503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49" name="AutoShape 115"/>
            <p:cNvSpPr/>
            <p:nvPr/>
          </p:nvSpPr>
          <p:spPr>
            <a:xfrm>
              <a:off x="8380440" y="8984160"/>
              <a:ext cx="695520" cy="481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50" name="AutoShape 116"/>
            <p:cNvSpPr/>
            <p:nvPr/>
          </p:nvSpPr>
          <p:spPr>
            <a:xfrm>
              <a:off x="8935920" y="9057600"/>
              <a:ext cx="273240" cy="182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51" name="AutoShape 117"/>
            <p:cNvSpPr/>
            <p:nvPr/>
          </p:nvSpPr>
          <p:spPr>
            <a:xfrm>
              <a:off x="8190000" y="9072000"/>
              <a:ext cx="33120" cy="106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52" name="Line 118"/>
            <p:cNvSpPr/>
            <p:nvPr/>
          </p:nvSpPr>
          <p:spPr>
            <a:xfrm>
              <a:off x="8231400" y="9079920"/>
              <a:ext cx="7920" cy="982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53" name="AutoShape 119"/>
            <p:cNvSpPr/>
            <p:nvPr/>
          </p:nvSpPr>
          <p:spPr>
            <a:xfrm>
              <a:off x="8863200" y="9154440"/>
              <a:ext cx="422280" cy="263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54" name="AutoShape 120"/>
            <p:cNvSpPr/>
            <p:nvPr/>
          </p:nvSpPr>
          <p:spPr>
            <a:xfrm>
              <a:off x="9232920" y="9221040"/>
              <a:ext cx="57240" cy="71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55" name="AutoShape 121"/>
            <p:cNvSpPr/>
            <p:nvPr/>
          </p:nvSpPr>
          <p:spPr>
            <a:xfrm>
              <a:off x="8190000" y="9240120"/>
              <a:ext cx="34920" cy="111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56" name="Line 122"/>
            <p:cNvSpPr/>
            <p:nvPr/>
          </p:nvSpPr>
          <p:spPr>
            <a:xfrm>
              <a:off x="8229600" y="9246600"/>
              <a:ext cx="9720" cy="968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57" name="AutoShape 123"/>
            <p:cNvSpPr/>
            <p:nvPr/>
          </p:nvSpPr>
          <p:spPr>
            <a:xfrm>
              <a:off x="9104400" y="9289440"/>
              <a:ext cx="144360" cy="82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58" name="AutoShape 124"/>
            <p:cNvSpPr/>
            <p:nvPr/>
          </p:nvSpPr>
          <p:spPr>
            <a:xfrm>
              <a:off x="8454960" y="9300600"/>
              <a:ext cx="136800" cy="133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59" name="AutoShape 125"/>
            <p:cNvSpPr/>
            <p:nvPr/>
          </p:nvSpPr>
          <p:spPr>
            <a:xfrm>
              <a:off x="8423280" y="9322920"/>
              <a:ext cx="20520" cy="74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60" name="AutoShape 126"/>
            <p:cNvSpPr/>
            <p:nvPr/>
          </p:nvSpPr>
          <p:spPr>
            <a:xfrm>
              <a:off x="9356760" y="9384840"/>
              <a:ext cx="65160" cy="59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61" name="AutoShape 127"/>
            <p:cNvSpPr/>
            <p:nvPr/>
          </p:nvSpPr>
          <p:spPr>
            <a:xfrm>
              <a:off x="8186760" y="9418320"/>
              <a:ext cx="36360" cy="96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62" name="Line 128"/>
            <p:cNvSpPr/>
            <p:nvPr/>
          </p:nvSpPr>
          <p:spPr>
            <a:xfrm>
              <a:off x="8226360" y="9424800"/>
              <a:ext cx="12960" cy="838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763" name="Rectangle 129"/>
          <p:cNvSpPr/>
          <p:nvPr/>
        </p:nvSpPr>
        <p:spPr>
          <a:xfrm>
            <a:off x="123840" y="8763120"/>
            <a:ext cx="770904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t">
            <a:noAutofit/>
          </a:bodyPr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  <a:ea typeface="Arial"/>
              </a:rPr>
              <a:t>Problem tritt auf durch </a:t>
            </a:r>
            <a:br>
              <a:rPr sz="2800"/>
            </a:br>
            <a:r>
              <a:rPr b="1" lang="en-US" sz="2800" spc="-1" strike="noStrike">
                <a:solidFill>
                  <a:srgbClr val="cc0000"/>
                </a:solidFill>
                <a:latin typeface="Arial"/>
                <a:ea typeface="Arial"/>
              </a:rPr>
              <a:t>Existenzquantoren (und minCardinality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4" name="Rectangle 130"/>
          <p:cNvSpPr/>
          <p:nvPr/>
        </p:nvSpPr>
        <p:spPr>
          <a:xfrm>
            <a:off x="9879840" y="8244000"/>
            <a:ext cx="6904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57960" tIns="0" bIns="0" anchor="t">
            <a:spAutoFit/>
          </a:bodyPr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cover dir="r"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500"/>
                            </p:stCondLst>
                            <p:childTnLst>
                              <p:par>
                                <p:cTn id="194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6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1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500"/>
                            </p:stCondLst>
                            <p:childTnLst>
                              <p:par>
                                <p:cTn id="203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1500"/>
                            </p:stCondLst>
                            <p:childTnLst>
                              <p:par>
                                <p:cTn id="207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9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8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500"/>
                            </p:stCondLst>
                            <p:childTnLst>
                              <p:par>
                                <p:cTn id="220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2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1500"/>
                            </p:stCondLst>
                            <p:childTnLst>
                              <p:par>
                                <p:cTn id="224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1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500"/>
                            </p:stCondLst>
                            <p:childTnLst>
                              <p:par>
                                <p:cTn id="233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5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500"/>
                            </p:stCondLst>
                            <p:childTnLst>
                              <p:par>
                                <p:cTn id="237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9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8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2" dur="5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1500"/>
                            </p:stCondLst>
                            <p:childTnLst>
                              <p:par>
                                <p:cTn id="254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6" dur="5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1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500"/>
                            </p:stCondLst>
                            <p:childTnLst>
                              <p:par>
                                <p:cTn id="263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5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1500"/>
                            </p:stCondLst>
                            <p:childTnLst>
                              <p:par>
                                <p:cTn id="267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9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500"/>
                            </p:stCondLst>
                            <p:childTnLst>
                              <p:par>
                                <p:cTn id="283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E3711-7B8E-48E0-B47A-1893B34C93AE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Beschreibungslogik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15" name="Rectangle 2"/>
          <p:cNvSpPr/>
          <p:nvPr/>
        </p:nvSpPr>
        <p:spPr>
          <a:xfrm>
            <a:off x="977760" y="2387520"/>
            <a:ext cx="11049120" cy="73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7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engl.: description logics (DLs)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100000"/>
              </a:lnSpc>
              <a:spcBef>
                <a:spcPts val="7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Fragmente von FO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100000"/>
              </a:lnSpc>
              <a:spcBef>
                <a:spcPts val="7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meist entscheidbar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100000"/>
              </a:lnSpc>
              <a:spcBef>
                <a:spcPts val="7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vergleichsweise ausdrucksstark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100000"/>
              </a:lnSpc>
              <a:spcBef>
                <a:spcPts val="7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entwickelt aus semantischen Netzwerken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100000"/>
              </a:lnSpc>
              <a:spcBef>
                <a:spcPts val="7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enge Verwandtschaft mit Modallogiken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100000"/>
              </a:lnSpc>
              <a:spcBef>
                <a:spcPts val="7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100000"/>
              </a:lnSpc>
              <a:spcBef>
                <a:spcPts val="7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W3C Standard OWL DL basiert auf der Beschreibungslogik </a:t>
            </a:r>
            <a:r>
              <a:rPr b="0" lang="en-US" sz="34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SHOIN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(D)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100000"/>
              </a:lnSpc>
              <a:spcBef>
                <a:spcPts val="7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wir besprechen zunächst </a:t>
            </a:r>
            <a:r>
              <a:rPr b="0" lang="en-US" sz="34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ALC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(Basis für komplexere DLs)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>
    <p:cover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41CF2-4C87-4069-AA46-A964D0F410F4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Tableau - Blocking - Idee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1358640" y="1841400"/>
            <a:ext cx="11048760" cy="315144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382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Wir haben folgendes konstruiert: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68" name="Oval 3"/>
          <p:cNvSpPr/>
          <p:nvPr/>
        </p:nvSpPr>
        <p:spPr>
          <a:xfrm>
            <a:off x="2814480" y="3645000"/>
            <a:ext cx="204840" cy="206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9" name="Rectangle 4"/>
          <p:cNvSpPr/>
          <p:nvPr/>
        </p:nvSpPr>
        <p:spPr>
          <a:xfrm>
            <a:off x="1478160" y="2717640"/>
            <a:ext cx="253620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57960" tIns="0" bIns="0" anchor="t">
            <a:spAutoFit/>
          </a:bodyPr>
          <a:p>
            <a:pPr marL="57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Person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marL="57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∃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hasParent.Person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0" name="Oval 5"/>
          <p:cNvSpPr/>
          <p:nvPr/>
        </p:nvSpPr>
        <p:spPr>
          <a:xfrm>
            <a:off x="5375160" y="3645000"/>
            <a:ext cx="204840" cy="206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1" name="Rectangle 6"/>
          <p:cNvSpPr/>
          <p:nvPr/>
        </p:nvSpPr>
        <p:spPr>
          <a:xfrm>
            <a:off x="4174560" y="2717640"/>
            <a:ext cx="253620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57960" tIns="0" bIns="0" anchor="t">
            <a:spAutoFit/>
          </a:bodyPr>
          <a:p>
            <a:pPr marL="57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Person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marL="57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∃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hasParent.Person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2" name="Oval 7"/>
          <p:cNvSpPr/>
          <p:nvPr/>
        </p:nvSpPr>
        <p:spPr>
          <a:xfrm>
            <a:off x="7935840" y="3645000"/>
            <a:ext cx="204840" cy="206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3" name="Rectangle 8"/>
          <p:cNvSpPr/>
          <p:nvPr/>
        </p:nvSpPr>
        <p:spPr>
          <a:xfrm>
            <a:off x="6839280" y="2717640"/>
            <a:ext cx="253620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57960" tIns="0" bIns="0" anchor="t">
            <a:spAutoFit/>
          </a:bodyPr>
          <a:p>
            <a:pPr marL="57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Person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marL="57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∃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hasParent.Person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4" name="Rectangle 9"/>
          <p:cNvSpPr/>
          <p:nvPr/>
        </p:nvSpPr>
        <p:spPr>
          <a:xfrm>
            <a:off x="1414440" y="4259160"/>
            <a:ext cx="120776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t">
            <a:noAutofit/>
          </a:bodyPr>
          <a:p>
            <a:pPr marL="382680" indent="-343080">
              <a:lnSpc>
                <a:spcPct val="10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Folgendes wäre aber auch denkbar: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5" name="Oval 10"/>
          <p:cNvSpPr/>
          <p:nvPr/>
        </p:nvSpPr>
        <p:spPr>
          <a:xfrm>
            <a:off x="4248000" y="6006960"/>
            <a:ext cx="206640" cy="2048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6" name="Rectangle 11"/>
          <p:cNvSpPr/>
          <p:nvPr/>
        </p:nvSpPr>
        <p:spPr>
          <a:xfrm>
            <a:off x="2912400" y="5079960"/>
            <a:ext cx="253620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57960" tIns="0" bIns="0" anchor="t">
            <a:spAutoFit/>
          </a:bodyPr>
          <a:p>
            <a:pPr marL="57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Person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marL="57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∃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hasParent.Person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7" name="Oval 12"/>
          <p:cNvSpPr/>
          <p:nvPr/>
        </p:nvSpPr>
        <p:spPr>
          <a:xfrm>
            <a:off x="6807240" y="6006960"/>
            <a:ext cx="204840" cy="2048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8" name="Rectangle 13"/>
          <p:cNvSpPr/>
          <p:nvPr/>
        </p:nvSpPr>
        <p:spPr>
          <a:xfrm>
            <a:off x="5608800" y="5079960"/>
            <a:ext cx="253620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57960" tIns="0" bIns="0" anchor="t">
            <a:spAutoFit/>
          </a:bodyPr>
          <a:p>
            <a:pPr marL="57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Person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marL="57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∃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hasParent.Person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779" name="Group 14"/>
          <p:cNvGrpSpPr/>
          <p:nvPr/>
        </p:nvGrpSpPr>
        <p:grpSpPr>
          <a:xfrm>
            <a:off x="3019320" y="3749760"/>
            <a:ext cx="2355480" cy="335520"/>
            <a:chOff x="3019320" y="3749760"/>
            <a:chExt cx="2355480" cy="335520"/>
          </a:xfrm>
        </p:grpSpPr>
        <p:sp>
          <p:nvSpPr>
            <p:cNvPr id="780" name="Line 15"/>
            <p:cNvSpPr/>
            <p:nvPr/>
          </p:nvSpPr>
          <p:spPr>
            <a:xfrm>
              <a:off x="3019320" y="3749760"/>
              <a:ext cx="23554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81" name="Rectangle 16"/>
            <p:cNvSpPr/>
            <p:nvPr/>
          </p:nvSpPr>
          <p:spPr>
            <a:xfrm>
              <a:off x="3420000" y="3749760"/>
              <a:ext cx="1389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57960" tIns="0" bIns="0" anchor="t">
              <a:spAutoFit/>
            </a:bodyPr>
            <a:p>
              <a:pPr marL="572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hasParent</a:t>
              </a:r>
              <a:endParaRPr b="0" lang="en-US" sz="2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782" name="Group 17"/>
          <p:cNvGrpSpPr/>
          <p:nvPr/>
        </p:nvGrpSpPr>
        <p:grpSpPr>
          <a:xfrm>
            <a:off x="5575320" y="3749760"/>
            <a:ext cx="2354400" cy="335520"/>
            <a:chOff x="5575320" y="3749760"/>
            <a:chExt cx="2354400" cy="335520"/>
          </a:xfrm>
        </p:grpSpPr>
        <p:sp>
          <p:nvSpPr>
            <p:cNvPr id="783" name="Line 18"/>
            <p:cNvSpPr/>
            <p:nvPr/>
          </p:nvSpPr>
          <p:spPr>
            <a:xfrm>
              <a:off x="5575320" y="3749760"/>
              <a:ext cx="23544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84" name="Rectangle 19"/>
            <p:cNvSpPr/>
            <p:nvPr/>
          </p:nvSpPr>
          <p:spPr>
            <a:xfrm>
              <a:off x="5981400" y="3749760"/>
              <a:ext cx="1389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57960" tIns="0" bIns="0" anchor="t">
              <a:spAutoFit/>
            </a:bodyPr>
            <a:p>
              <a:pPr marL="572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hasParent</a:t>
              </a:r>
              <a:endParaRPr b="0" lang="en-US" sz="2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785" name="Group 20"/>
          <p:cNvGrpSpPr/>
          <p:nvPr/>
        </p:nvGrpSpPr>
        <p:grpSpPr>
          <a:xfrm>
            <a:off x="8140680" y="3749760"/>
            <a:ext cx="2354400" cy="335520"/>
            <a:chOff x="8140680" y="3749760"/>
            <a:chExt cx="2354400" cy="335520"/>
          </a:xfrm>
        </p:grpSpPr>
        <p:sp>
          <p:nvSpPr>
            <p:cNvPr id="786" name="Line 21"/>
            <p:cNvSpPr/>
            <p:nvPr/>
          </p:nvSpPr>
          <p:spPr>
            <a:xfrm>
              <a:off x="8140680" y="3749760"/>
              <a:ext cx="2354400" cy="144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87" name="Rectangle 22"/>
            <p:cNvSpPr/>
            <p:nvPr/>
          </p:nvSpPr>
          <p:spPr>
            <a:xfrm>
              <a:off x="8541000" y="3749760"/>
              <a:ext cx="1389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57960" tIns="0" bIns="0" anchor="t">
              <a:spAutoFit/>
            </a:bodyPr>
            <a:p>
              <a:pPr marL="572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hasParent</a:t>
              </a:r>
              <a:endParaRPr b="0" lang="en-US" sz="2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788" name="Group 23"/>
          <p:cNvGrpSpPr/>
          <p:nvPr/>
        </p:nvGrpSpPr>
        <p:grpSpPr>
          <a:xfrm>
            <a:off x="4454640" y="6108840"/>
            <a:ext cx="2354040" cy="335520"/>
            <a:chOff x="4454640" y="6108840"/>
            <a:chExt cx="2354040" cy="335520"/>
          </a:xfrm>
        </p:grpSpPr>
        <p:sp>
          <p:nvSpPr>
            <p:cNvPr id="789" name="Line 24"/>
            <p:cNvSpPr/>
            <p:nvPr/>
          </p:nvSpPr>
          <p:spPr>
            <a:xfrm>
              <a:off x="4454640" y="6108840"/>
              <a:ext cx="23540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90" name="Rectangle 25"/>
            <p:cNvSpPr/>
            <p:nvPr/>
          </p:nvSpPr>
          <p:spPr>
            <a:xfrm>
              <a:off x="4854240" y="6108840"/>
              <a:ext cx="1389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57960" tIns="0" bIns="0" anchor="t">
              <a:spAutoFit/>
            </a:bodyPr>
            <a:p>
              <a:pPr marL="572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hasParent</a:t>
              </a:r>
              <a:endParaRPr b="0" lang="en-US" sz="2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791" name="Group 26"/>
          <p:cNvGrpSpPr/>
          <p:nvPr/>
        </p:nvGrpSpPr>
        <p:grpSpPr>
          <a:xfrm>
            <a:off x="6180120" y="6108840"/>
            <a:ext cx="1565280" cy="1457640"/>
            <a:chOff x="6180120" y="6108840"/>
            <a:chExt cx="1565280" cy="1457640"/>
          </a:xfrm>
        </p:grpSpPr>
        <p:sp>
          <p:nvSpPr>
            <p:cNvPr id="792" name="AutoShape 27"/>
            <p:cNvSpPr/>
            <p:nvPr/>
          </p:nvSpPr>
          <p:spPr>
            <a:xfrm>
              <a:off x="6180120" y="6108840"/>
              <a:ext cx="1565280" cy="103320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93" name="Rectangle 28"/>
            <p:cNvSpPr/>
            <p:nvPr/>
          </p:nvSpPr>
          <p:spPr>
            <a:xfrm>
              <a:off x="6288480" y="7230960"/>
              <a:ext cx="1389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57960" tIns="0" bIns="0" anchor="t">
              <a:spAutoFit/>
            </a:bodyPr>
            <a:p>
              <a:pPr marL="572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hasParent</a:t>
              </a:r>
              <a:endParaRPr b="0" lang="en-US" sz="2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794" name="Group 29"/>
          <p:cNvGrpSpPr/>
          <p:nvPr/>
        </p:nvGrpSpPr>
        <p:grpSpPr>
          <a:xfrm>
            <a:off x="2916360" y="3851280"/>
            <a:ext cx="5120640" cy="2151000"/>
            <a:chOff x="2916360" y="3851280"/>
            <a:chExt cx="5120640" cy="2151000"/>
          </a:xfrm>
        </p:grpSpPr>
        <p:sp>
          <p:nvSpPr>
            <p:cNvPr id="795" name="Line 30"/>
            <p:cNvSpPr/>
            <p:nvPr/>
          </p:nvSpPr>
          <p:spPr>
            <a:xfrm>
              <a:off x="2916360" y="3851280"/>
              <a:ext cx="1424520" cy="2151000"/>
            </a:xfrm>
            <a:prstGeom prst="line">
              <a:avLst/>
            </a:prstGeom>
            <a:ln w="12600">
              <a:solidFill>
                <a:srgbClr val="cc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96" name="Line 31"/>
            <p:cNvSpPr/>
            <p:nvPr/>
          </p:nvSpPr>
          <p:spPr>
            <a:xfrm>
              <a:off x="5475600" y="3851280"/>
              <a:ext cx="1437120" cy="2146320"/>
            </a:xfrm>
            <a:prstGeom prst="line">
              <a:avLst/>
            </a:prstGeom>
            <a:ln w="12600">
              <a:solidFill>
                <a:srgbClr val="cc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97" name="Line 32"/>
            <p:cNvSpPr/>
            <p:nvPr/>
          </p:nvSpPr>
          <p:spPr>
            <a:xfrm flipH="1">
              <a:off x="6903720" y="3851280"/>
              <a:ext cx="1133280" cy="2146320"/>
            </a:xfrm>
            <a:prstGeom prst="line">
              <a:avLst/>
            </a:prstGeom>
            <a:ln w="12600">
              <a:solidFill>
                <a:srgbClr val="cc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798" name="Rectangle 33"/>
          <p:cNvSpPr/>
          <p:nvPr/>
        </p:nvSpPr>
        <p:spPr>
          <a:xfrm>
            <a:off x="991080" y="8155080"/>
            <a:ext cx="1092564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57960" tIns="0" bIns="0" anchor="t">
            <a:spAutoFit/>
          </a:bodyPr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.h. Wiederverwendung alter Knoten!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s muss natürlich formal nachgewiesen werden, dass das ausreicht!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9" name="Rectangle 34"/>
          <p:cNvSpPr/>
          <p:nvPr/>
        </p:nvSpPr>
        <p:spPr>
          <a:xfrm>
            <a:off x="8460000" y="6404040"/>
            <a:ext cx="1734480" cy="426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57960" tIns="0" bIns="0" anchor="t">
            <a:spAutoFit/>
          </a:bodyPr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Arial"/>
                <a:ea typeface="Arial"/>
              </a:rPr>
              <a:t>Blocking!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cover dir="r"/>
  </p:transition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00"/>
                            </p:stCondLst>
                            <p:childTnLst>
                              <p:par>
                                <p:cTn id="296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8" dur="5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0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2500"/>
                            </p:stCondLst>
                            <p:childTnLst>
                              <p:par>
                                <p:cTn id="304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3001"/>
                            </p:stCondLst>
                            <p:childTnLst>
                              <p:par>
                                <p:cTn id="307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9" dur="5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4001"/>
                            </p:stCondLst>
                            <p:childTnLst>
                              <p:par>
                                <p:cTn id="311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5001"/>
                            </p:stCondLst>
                            <p:childTnLst>
                              <p:par>
                                <p:cTn id="315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5502"/>
                            </p:stCondLst>
                            <p:childTnLst>
                              <p:par>
                                <p:cTn id="318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0" dur="5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6502"/>
                            </p:stCondLst>
                            <p:childTnLst>
                              <p:par>
                                <p:cTn id="322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9" dur="5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1500"/>
                            </p:stCondLst>
                            <p:childTnLst>
                              <p:par>
                                <p:cTn id="339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1" dur="5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2500"/>
                            </p:stCondLst>
                            <p:childTnLst>
                              <p:par>
                                <p:cTn id="343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3001"/>
                            </p:stCondLst>
                            <p:childTnLst>
                              <p:par>
                                <p:cTn id="346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8" dur="5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4001"/>
                            </p:stCondLst>
                            <p:childTnLst>
                              <p:par>
                                <p:cTn id="350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2" dur="5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5001"/>
                            </p:stCondLst>
                            <p:childTnLst>
                              <p:par>
                                <p:cTn id="354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0" dur="5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E6C4B-625D-4AE1-9A83-C2E08CE2ADCA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Tableau mit Blocking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grpSp>
        <p:nvGrpSpPr>
          <p:cNvPr id="802" name="Group 2"/>
          <p:cNvGrpSpPr/>
          <p:nvPr/>
        </p:nvGrpSpPr>
        <p:grpSpPr>
          <a:xfrm>
            <a:off x="2759040" y="3027240"/>
            <a:ext cx="5638680" cy="512640"/>
            <a:chOff x="2759040" y="3027240"/>
            <a:chExt cx="5638680" cy="512640"/>
          </a:xfrm>
        </p:grpSpPr>
        <p:sp>
          <p:nvSpPr>
            <p:cNvPr id="803" name="Rectangle 3"/>
            <p:cNvSpPr/>
            <p:nvPr/>
          </p:nvSpPr>
          <p:spPr>
            <a:xfrm>
              <a:off x="2760480" y="3027240"/>
              <a:ext cx="5634360" cy="5126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804" name="Rectangle 4"/>
            <p:cNvSpPr/>
            <p:nvPr/>
          </p:nvSpPr>
          <p:spPr>
            <a:xfrm>
              <a:off x="2759040" y="3027240"/>
              <a:ext cx="5638680" cy="44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57960" tIns="0" bIns="0" anchor="t">
              <a:noAutofit/>
            </a:bodyPr>
            <a:p>
              <a:pPr marL="572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Person(Bill)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805" name="Group 5"/>
          <p:cNvGrpSpPr/>
          <p:nvPr/>
        </p:nvGrpSpPr>
        <p:grpSpPr>
          <a:xfrm>
            <a:off x="2760840" y="3540240"/>
            <a:ext cx="10351080" cy="3480480"/>
            <a:chOff x="2760840" y="3540240"/>
            <a:chExt cx="10351080" cy="3480480"/>
          </a:xfrm>
        </p:grpSpPr>
        <p:grpSp>
          <p:nvGrpSpPr>
            <p:cNvPr id="806" name="Group 6"/>
            <p:cNvGrpSpPr/>
            <p:nvPr/>
          </p:nvGrpSpPr>
          <p:grpSpPr>
            <a:xfrm>
              <a:off x="5319360" y="4563720"/>
              <a:ext cx="5333760" cy="927000"/>
              <a:chOff x="5319360" y="4563720"/>
              <a:chExt cx="5333760" cy="927000"/>
            </a:xfrm>
          </p:grpSpPr>
          <p:sp>
            <p:nvSpPr>
              <p:cNvPr id="807" name="Rectangle 7"/>
              <p:cNvSpPr/>
              <p:nvPr/>
            </p:nvSpPr>
            <p:spPr>
              <a:xfrm>
                <a:off x="5319360" y="4563720"/>
                <a:ext cx="5325840" cy="9270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08" name="Rectangle 8"/>
              <p:cNvSpPr/>
              <p:nvPr/>
            </p:nvSpPr>
            <p:spPr>
              <a:xfrm>
                <a:off x="5319360" y="4563720"/>
                <a:ext cx="5333760" cy="81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20160" tIns="12600" bIns="126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81d58"/>
                    </a:solidFill>
                    <a:latin typeface="Arial"/>
                    <a:ea typeface="Arial"/>
                  </a:rPr>
                  <a:t>hasParent(Bill,x</a:t>
                </a:r>
                <a:r>
                  <a:rPr b="1" lang="en-US" sz="2400" spc="-1" strike="noStrike" baseline="-20000">
                    <a:solidFill>
                      <a:srgbClr val="081d58"/>
                    </a:solidFill>
                    <a:latin typeface="Arial"/>
                    <a:ea typeface="Arial"/>
                  </a:rPr>
                  <a:t>1</a:t>
                </a:r>
                <a:r>
                  <a:rPr b="1" lang="en-US" sz="2400" spc="-1" strike="noStrike">
                    <a:solidFill>
                      <a:srgbClr val="081d58"/>
                    </a:solidFill>
                    <a:latin typeface="Arial"/>
                    <a:ea typeface="Arial"/>
                  </a:rPr>
                  <a:t>)</a:t>
                </a:r>
                <a:endParaRPr b="0" lang="en-US" sz="2400" spc="-1" strike="noStrike">
                  <a:solidFill>
                    <a:srgbClr val="000000"/>
                  </a:solidFill>
                  <a:latin typeface="Gill Sans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81d58"/>
                    </a:solidFill>
                    <a:latin typeface="Arial"/>
                    <a:ea typeface="Arial"/>
                  </a:rPr>
                  <a:t>Person(x</a:t>
                </a:r>
                <a:r>
                  <a:rPr b="1" lang="en-US" sz="2400" spc="-1" strike="noStrike" baseline="-20000">
                    <a:solidFill>
                      <a:srgbClr val="081d58"/>
                    </a:solidFill>
                    <a:latin typeface="Arial"/>
                    <a:ea typeface="Arial"/>
                  </a:rPr>
                  <a:t>1</a:t>
                </a:r>
                <a:r>
                  <a:rPr b="1" lang="en-US" sz="2400" spc="-1" strike="noStrike">
                    <a:solidFill>
                      <a:srgbClr val="081d58"/>
                    </a:solidFill>
                    <a:latin typeface="Arial"/>
                    <a:ea typeface="Arial"/>
                  </a:rPr>
                  <a:t>)</a:t>
                </a:r>
                <a:endParaRPr b="0" lang="en-US" sz="24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grpSp>
          <p:nvGrpSpPr>
            <p:cNvPr id="809" name="Group 9"/>
            <p:cNvGrpSpPr/>
            <p:nvPr/>
          </p:nvGrpSpPr>
          <p:grpSpPr>
            <a:xfrm>
              <a:off x="10645200" y="4659120"/>
              <a:ext cx="926640" cy="304560"/>
              <a:chOff x="10645200" y="4659120"/>
              <a:chExt cx="926640" cy="304560"/>
            </a:xfrm>
          </p:grpSpPr>
          <p:sp>
            <p:nvSpPr>
              <p:cNvPr id="810" name="Line 10"/>
              <p:cNvSpPr/>
              <p:nvPr/>
            </p:nvSpPr>
            <p:spPr>
              <a:xfrm flipH="1">
                <a:off x="10645200" y="4866840"/>
                <a:ext cx="509400" cy="2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11" name="Rectangle 11"/>
              <p:cNvSpPr/>
              <p:nvPr/>
            </p:nvSpPr>
            <p:spPr>
              <a:xfrm>
                <a:off x="11153160" y="4659120"/>
                <a:ext cx="41868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81d58"/>
                    </a:solidFill>
                    <a:latin typeface="Symbol"/>
                    <a:ea typeface="Symbol"/>
                  </a:rPr>
                  <a:t>∃</a:t>
                </a:r>
                <a:endParaRPr b="0" lang="en-US" sz="24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grpSp>
          <p:nvGrpSpPr>
            <p:cNvPr id="812" name="Group 12"/>
            <p:cNvGrpSpPr/>
            <p:nvPr/>
          </p:nvGrpSpPr>
          <p:grpSpPr>
            <a:xfrm>
              <a:off x="2760840" y="3540240"/>
              <a:ext cx="5638320" cy="510840"/>
              <a:chOff x="2760840" y="3540240"/>
              <a:chExt cx="5638320" cy="510840"/>
            </a:xfrm>
          </p:grpSpPr>
          <p:sp>
            <p:nvSpPr>
              <p:cNvPr id="813" name="Rectangle 13"/>
              <p:cNvSpPr/>
              <p:nvPr/>
            </p:nvSpPr>
            <p:spPr>
              <a:xfrm>
                <a:off x="2760840" y="3540240"/>
                <a:ext cx="5633640" cy="510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14" name="Rectangle 14"/>
              <p:cNvSpPr/>
              <p:nvPr/>
            </p:nvSpPr>
            <p:spPr>
              <a:xfrm>
                <a:off x="2760840" y="3540240"/>
                <a:ext cx="5638320" cy="40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20160" tIns="12600" bIns="126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msy10"/>
                    <a:ea typeface="cmsy10"/>
                  </a:rPr>
                  <a:t>:</a:t>
                </a:r>
                <a:r>
                  <a:rPr b="1" lang="en-US" sz="2400" spc="-1" strike="noStrike">
                    <a:solidFill>
                      <a:srgbClr val="081d58"/>
                    </a:solidFill>
                    <a:latin typeface="Arial"/>
                    <a:ea typeface="Arial"/>
                  </a:rPr>
                  <a:t>Person </a:t>
                </a:r>
                <a:r>
                  <a:rPr b="0" lang="en-US" sz="2400" spc="-1" strike="noStrike">
                    <a:solidFill>
                      <a:srgbClr val="081d58"/>
                    </a:solidFill>
                    <a:latin typeface="cmsy10"/>
                    <a:ea typeface="cmsy10"/>
                  </a:rPr>
                  <a:t>t</a:t>
                </a:r>
                <a:r>
                  <a:rPr b="1" lang="en-US" sz="2400" spc="-1" strike="noStrike">
                    <a:solidFill>
                      <a:srgbClr val="081d58"/>
                    </a:solidFill>
                    <a:latin typeface="Arial"/>
                    <a:ea typeface="Arial"/>
                  </a:rPr>
                  <a:t> </a:t>
                </a:r>
                <a:r>
                  <a:rPr b="0" lang="en-US" sz="2400" spc="-1" strike="noStrike">
                    <a:solidFill>
                      <a:srgbClr val="081d58"/>
                    </a:solidFill>
                    <a:latin typeface="Symbol"/>
                    <a:ea typeface="Symbol"/>
                  </a:rPr>
                  <a:t>∃</a:t>
                </a:r>
                <a:r>
                  <a:rPr b="1" lang="en-US" sz="2400" spc="-1" strike="noStrike">
                    <a:solidFill>
                      <a:srgbClr val="081d58"/>
                    </a:solidFill>
                    <a:latin typeface="Arial"/>
                    <a:ea typeface="Arial"/>
                  </a:rPr>
                  <a:t>hasParent.Person(Bill)</a:t>
                </a:r>
                <a:endParaRPr b="0" lang="en-US" sz="24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grpSp>
          <p:nvGrpSpPr>
            <p:cNvPr id="815" name="Group 15"/>
            <p:cNvGrpSpPr/>
            <p:nvPr/>
          </p:nvGrpSpPr>
          <p:grpSpPr>
            <a:xfrm>
              <a:off x="8394120" y="3540240"/>
              <a:ext cx="926640" cy="329760"/>
              <a:chOff x="8394120" y="3540240"/>
              <a:chExt cx="926640" cy="329760"/>
            </a:xfrm>
          </p:grpSpPr>
          <p:sp>
            <p:nvSpPr>
              <p:cNvPr id="816" name="Line 16"/>
              <p:cNvSpPr/>
              <p:nvPr/>
            </p:nvSpPr>
            <p:spPr>
              <a:xfrm flipH="1">
                <a:off x="8394120" y="3742920"/>
                <a:ext cx="5094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17" name="Rectangle 17"/>
              <p:cNvSpPr/>
              <p:nvPr/>
            </p:nvSpPr>
            <p:spPr>
              <a:xfrm>
                <a:off x="8902080" y="3540240"/>
                <a:ext cx="41868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81d58"/>
                    </a:solidFill>
                    <a:latin typeface="cmsy10"/>
                    <a:ea typeface="cmsy10"/>
                  </a:rPr>
                  <a:t>v</a:t>
                </a:r>
                <a:endParaRPr b="0" lang="en-US" sz="24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grpSp>
          <p:nvGrpSpPr>
            <p:cNvPr id="818" name="Group 18"/>
            <p:cNvGrpSpPr/>
            <p:nvPr/>
          </p:nvGrpSpPr>
          <p:grpSpPr>
            <a:xfrm>
              <a:off x="2760840" y="4049640"/>
              <a:ext cx="2145960" cy="511920"/>
              <a:chOff x="2760840" y="4049640"/>
              <a:chExt cx="2145960" cy="511920"/>
            </a:xfrm>
          </p:grpSpPr>
          <p:sp>
            <p:nvSpPr>
              <p:cNvPr id="819" name="Rectangle 19"/>
              <p:cNvSpPr/>
              <p:nvPr/>
            </p:nvSpPr>
            <p:spPr>
              <a:xfrm>
                <a:off x="2760840" y="4049640"/>
                <a:ext cx="2145960" cy="511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20" name="Rectangle 20"/>
              <p:cNvSpPr/>
              <p:nvPr/>
            </p:nvSpPr>
            <p:spPr>
              <a:xfrm>
                <a:off x="2760840" y="4049640"/>
                <a:ext cx="2145960" cy="40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20160" tIns="12600" bIns="126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eceef"/>
                    </a:solidFill>
                    <a:latin typeface="cmsy10"/>
                    <a:ea typeface="cmsy10"/>
                  </a:rPr>
                  <a:t>:</a:t>
                </a:r>
                <a:r>
                  <a:rPr b="1" lang="en-US" sz="2400" spc="-1" strike="noStrike">
                    <a:solidFill>
                      <a:srgbClr val="e2ddff"/>
                    </a:solidFill>
                    <a:latin typeface="Arial"/>
                    <a:ea typeface="Arial"/>
                  </a:rPr>
                  <a:t>Person(Bill)</a:t>
                </a:r>
                <a:endParaRPr b="0" lang="en-US" sz="24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grpSp>
          <p:nvGrpSpPr>
            <p:cNvPr id="821" name="Group 21"/>
            <p:cNvGrpSpPr/>
            <p:nvPr/>
          </p:nvGrpSpPr>
          <p:grpSpPr>
            <a:xfrm>
              <a:off x="5321160" y="4049640"/>
              <a:ext cx="5333760" cy="511920"/>
              <a:chOff x="5321160" y="4049640"/>
              <a:chExt cx="5333760" cy="511920"/>
            </a:xfrm>
          </p:grpSpPr>
          <p:sp>
            <p:nvSpPr>
              <p:cNvPr id="822" name="Rectangle 22"/>
              <p:cNvSpPr/>
              <p:nvPr/>
            </p:nvSpPr>
            <p:spPr>
              <a:xfrm>
                <a:off x="5321160" y="4049640"/>
                <a:ext cx="5333760" cy="511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23" name="Rectangle 23"/>
              <p:cNvSpPr/>
              <p:nvPr/>
            </p:nvSpPr>
            <p:spPr>
              <a:xfrm>
                <a:off x="5321160" y="4049640"/>
                <a:ext cx="5333760" cy="40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20160" tIns="12600" bIns="126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81d58"/>
                    </a:solidFill>
                    <a:latin typeface="Symbol"/>
                    <a:ea typeface="Symbol"/>
                  </a:rPr>
                  <a:t>∃</a:t>
                </a:r>
                <a:r>
                  <a:rPr b="1" lang="en-US" sz="2400" spc="-1" strike="noStrike">
                    <a:solidFill>
                      <a:srgbClr val="081d58"/>
                    </a:solidFill>
                    <a:latin typeface="Arial"/>
                    <a:ea typeface="Arial"/>
                  </a:rPr>
                  <a:t>hasParent.Person(Bill)</a:t>
                </a:r>
                <a:endParaRPr b="0" lang="en-US" sz="24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grpSp>
          <p:nvGrpSpPr>
            <p:cNvPr id="824" name="Group 24"/>
            <p:cNvGrpSpPr/>
            <p:nvPr/>
          </p:nvGrpSpPr>
          <p:grpSpPr>
            <a:xfrm>
              <a:off x="10647000" y="4049640"/>
              <a:ext cx="926640" cy="329760"/>
              <a:chOff x="10647000" y="4049640"/>
              <a:chExt cx="926640" cy="329760"/>
            </a:xfrm>
          </p:grpSpPr>
          <p:sp>
            <p:nvSpPr>
              <p:cNvPr id="825" name="Line 25"/>
              <p:cNvSpPr/>
              <p:nvPr/>
            </p:nvSpPr>
            <p:spPr>
              <a:xfrm flipH="1">
                <a:off x="10647000" y="4252320"/>
                <a:ext cx="509400" cy="2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26" name="Rectangle 26"/>
              <p:cNvSpPr/>
              <p:nvPr/>
            </p:nvSpPr>
            <p:spPr>
              <a:xfrm>
                <a:off x="11154960" y="4049640"/>
                <a:ext cx="41868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81d58"/>
                    </a:solidFill>
                    <a:latin typeface="cmsy10"/>
                    <a:ea typeface="cmsy10"/>
                  </a:rPr>
                  <a:t>t</a:t>
                </a:r>
                <a:endParaRPr b="0" lang="en-US" sz="24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grpSp>
          <p:nvGrpSpPr>
            <p:cNvPr id="827" name="Group 27"/>
            <p:cNvGrpSpPr/>
            <p:nvPr/>
          </p:nvGrpSpPr>
          <p:grpSpPr>
            <a:xfrm>
              <a:off x="3375000" y="4563720"/>
              <a:ext cx="537120" cy="496440"/>
              <a:chOff x="3375000" y="4563720"/>
              <a:chExt cx="537120" cy="496440"/>
            </a:xfrm>
          </p:grpSpPr>
          <p:sp>
            <p:nvSpPr>
              <p:cNvPr id="828" name="AutoShape 28"/>
              <p:cNvSpPr/>
              <p:nvPr/>
            </p:nvSpPr>
            <p:spPr>
              <a:xfrm>
                <a:off x="3375000" y="4563720"/>
                <a:ext cx="537120" cy="496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29" name="AutoShape 29"/>
              <p:cNvSpPr/>
              <p:nvPr/>
            </p:nvSpPr>
            <p:spPr>
              <a:xfrm>
                <a:off x="3387600" y="4576320"/>
                <a:ext cx="510480" cy="471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30" name="AutoShape 30"/>
              <p:cNvSpPr/>
              <p:nvPr/>
            </p:nvSpPr>
            <p:spPr>
              <a:xfrm>
                <a:off x="3402000" y="4590720"/>
                <a:ext cx="483480" cy="442440"/>
              </a:xfrm>
              <a:prstGeom prst="pi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31" name="AutoShape 31"/>
              <p:cNvSpPr/>
              <p:nvPr/>
            </p:nvSpPr>
            <p:spPr>
              <a:xfrm>
                <a:off x="3440160" y="4687560"/>
                <a:ext cx="93600" cy="2178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32" name="AutoShape 32"/>
              <p:cNvSpPr/>
              <p:nvPr/>
            </p:nvSpPr>
            <p:spPr>
              <a:xfrm>
                <a:off x="3540240" y="4692600"/>
                <a:ext cx="106200" cy="208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33" name="AutoShape 33"/>
              <p:cNvSpPr/>
              <p:nvPr/>
            </p:nvSpPr>
            <p:spPr>
              <a:xfrm>
                <a:off x="3653280" y="4687560"/>
                <a:ext cx="91800" cy="2178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34" name="Line 34"/>
              <p:cNvSpPr/>
              <p:nvPr/>
            </p:nvSpPr>
            <p:spPr>
              <a:xfrm>
                <a:off x="3692880" y="4734000"/>
                <a:ext cx="14400" cy="12564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35" name="AutoShape 35"/>
              <p:cNvSpPr/>
              <p:nvPr/>
            </p:nvSpPr>
            <p:spPr>
              <a:xfrm>
                <a:off x="3756600" y="4692600"/>
                <a:ext cx="96840" cy="208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36" name="Line 36"/>
              <p:cNvSpPr/>
              <p:nvPr/>
            </p:nvSpPr>
            <p:spPr>
              <a:xfrm>
                <a:off x="3799440" y="4735440"/>
                <a:ext cx="14400" cy="6192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grpSp>
          <p:nvGrpSpPr>
            <p:cNvPr id="837" name="Group 37"/>
            <p:cNvGrpSpPr/>
            <p:nvPr/>
          </p:nvGrpSpPr>
          <p:grpSpPr>
            <a:xfrm>
              <a:off x="4190760" y="5997240"/>
              <a:ext cx="1955520" cy="526320"/>
              <a:chOff x="4190760" y="5997240"/>
              <a:chExt cx="1955520" cy="526320"/>
            </a:xfrm>
          </p:grpSpPr>
          <p:sp>
            <p:nvSpPr>
              <p:cNvPr id="838" name="Rectangle 38"/>
              <p:cNvSpPr/>
              <p:nvPr/>
            </p:nvSpPr>
            <p:spPr>
              <a:xfrm>
                <a:off x="4193640" y="5997240"/>
                <a:ext cx="1942560" cy="526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39" name="Rectangle 39"/>
              <p:cNvSpPr/>
              <p:nvPr/>
            </p:nvSpPr>
            <p:spPr>
              <a:xfrm>
                <a:off x="4190760" y="5997240"/>
                <a:ext cx="1955520" cy="41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20160" tIns="12600" bIns="126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eceef"/>
                    </a:solidFill>
                    <a:latin typeface="cmsy10"/>
                    <a:ea typeface="cmsy10"/>
                  </a:rPr>
                  <a:t>:</a:t>
                </a:r>
                <a:r>
                  <a:rPr b="1" lang="en-US" sz="2400" spc="-1" strike="noStrike">
                    <a:solidFill>
                      <a:srgbClr val="e2ddff"/>
                    </a:solidFill>
                    <a:latin typeface="Arial"/>
                    <a:ea typeface="Arial"/>
                  </a:rPr>
                  <a:t>Person(x</a:t>
                </a:r>
                <a:r>
                  <a:rPr b="1" lang="en-US" sz="2400" spc="-1" strike="noStrike" baseline="-20000">
                    <a:solidFill>
                      <a:srgbClr val="e2ddff"/>
                    </a:solidFill>
                    <a:latin typeface="Arial"/>
                    <a:ea typeface="Arial"/>
                  </a:rPr>
                  <a:t>1</a:t>
                </a:r>
                <a:r>
                  <a:rPr b="1" lang="en-US" sz="2400" spc="-1" strike="noStrike">
                    <a:solidFill>
                      <a:srgbClr val="e2ddff"/>
                    </a:solidFill>
                    <a:latin typeface="Arial"/>
                    <a:ea typeface="Arial"/>
                  </a:rPr>
                  <a:t>)</a:t>
                </a:r>
                <a:endParaRPr b="0" lang="en-US" sz="24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grpSp>
          <p:nvGrpSpPr>
            <p:cNvPr id="840" name="Group 40"/>
            <p:cNvGrpSpPr/>
            <p:nvPr/>
          </p:nvGrpSpPr>
          <p:grpSpPr>
            <a:xfrm>
              <a:off x="6549840" y="5997240"/>
              <a:ext cx="5638320" cy="526320"/>
              <a:chOff x="6549840" y="5997240"/>
              <a:chExt cx="5638320" cy="526320"/>
            </a:xfrm>
          </p:grpSpPr>
          <p:sp>
            <p:nvSpPr>
              <p:cNvPr id="841" name="Rectangle 41"/>
              <p:cNvSpPr/>
              <p:nvPr/>
            </p:nvSpPr>
            <p:spPr>
              <a:xfrm>
                <a:off x="6549840" y="5997240"/>
                <a:ext cx="5638320" cy="526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42" name="Rectangle 42"/>
              <p:cNvSpPr/>
              <p:nvPr/>
            </p:nvSpPr>
            <p:spPr>
              <a:xfrm>
                <a:off x="6549840" y="5997240"/>
                <a:ext cx="5638320" cy="41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20160" tIns="12600" bIns="126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81d58"/>
                    </a:solidFill>
                    <a:latin typeface="Symbol"/>
                    <a:ea typeface="Symbol"/>
                  </a:rPr>
                  <a:t>∃</a:t>
                </a:r>
                <a:r>
                  <a:rPr b="1" lang="en-US" sz="2400" spc="-1" strike="noStrike">
                    <a:solidFill>
                      <a:srgbClr val="081d58"/>
                    </a:solidFill>
                    <a:latin typeface="Arial"/>
                    <a:ea typeface="Arial"/>
                  </a:rPr>
                  <a:t>hasParent.Person(x</a:t>
                </a:r>
                <a:r>
                  <a:rPr b="1" lang="en-US" sz="2400" spc="-1" strike="noStrike" baseline="-20000">
                    <a:solidFill>
                      <a:srgbClr val="081d58"/>
                    </a:solidFill>
                    <a:latin typeface="Arial"/>
                    <a:ea typeface="Arial"/>
                  </a:rPr>
                  <a:t>1</a:t>
                </a:r>
                <a:r>
                  <a:rPr b="1" lang="en-US" sz="2400" spc="-1" strike="noStrike">
                    <a:solidFill>
                      <a:srgbClr val="081d58"/>
                    </a:solidFill>
                    <a:latin typeface="Arial"/>
                    <a:ea typeface="Arial"/>
                  </a:rPr>
                  <a:t>)</a:t>
                </a:r>
                <a:endParaRPr b="0" lang="en-US" sz="24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grpSp>
          <p:nvGrpSpPr>
            <p:cNvPr id="843" name="Group 43"/>
            <p:cNvGrpSpPr/>
            <p:nvPr/>
          </p:nvGrpSpPr>
          <p:grpSpPr>
            <a:xfrm>
              <a:off x="12185280" y="6011640"/>
              <a:ext cx="926640" cy="329760"/>
              <a:chOff x="12185280" y="6011640"/>
              <a:chExt cx="926640" cy="329760"/>
            </a:xfrm>
          </p:grpSpPr>
          <p:sp>
            <p:nvSpPr>
              <p:cNvPr id="844" name="Line 44"/>
              <p:cNvSpPr/>
              <p:nvPr/>
            </p:nvSpPr>
            <p:spPr>
              <a:xfrm flipH="1">
                <a:off x="12185280" y="6214320"/>
                <a:ext cx="5094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45" name="Rectangle 45"/>
              <p:cNvSpPr/>
              <p:nvPr/>
            </p:nvSpPr>
            <p:spPr>
              <a:xfrm>
                <a:off x="12693240" y="6011640"/>
                <a:ext cx="41868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81d58"/>
                    </a:solidFill>
                    <a:latin typeface="cmsy10"/>
                    <a:ea typeface="cmsy10"/>
                  </a:rPr>
                  <a:t>t</a:t>
                </a:r>
                <a:endParaRPr b="0" lang="en-US" sz="24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grpSp>
          <p:nvGrpSpPr>
            <p:cNvPr id="846" name="Group 46"/>
            <p:cNvGrpSpPr/>
            <p:nvPr/>
          </p:nvGrpSpPr>
          <p:grpSpPr>
            <a:xfrm>
              <a:off x="4603680" y="6524280"/>
              <a:ext cx="536040" cy="496440"/>
              <a:chOff x="4603680" y="6524280"/>
              <a:chExt cx="536040" cy="496440"/>
            </a:xfrm>
          </p:grpSpPr>
          <p:sp>
            <p:nvSpPr>
              <p:cNvPr id="847" name="AutoShape 47"/>
              <p:cNvSpPr/>
              <p:nvPr/>
            </p:nvSpPr>
            <p:spPr>
              <a:xfrm>
                <a:off x="4603680" y="6524280"/>
                <a:ext cx="536040" cy="496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48" name="AutoShape 48"/>
              <p:cNvSpPr/>
              <p:nvPr/>
            </p:nvSpPr>
            <p:spPr>
              <a:xfrm>
                <a:off x="4615920" y="6536880"/>
                <a:ext cx="509400" cy="471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49" name="AutoShape 49"/>
              <p:cNvSpPr/>
              <p:nvPr/>
            </p:nvSpPr>
            <p:spPr>
              <a:xfrm>
                <a:off x="4630320" y="6551280"/>
                <a:ext cx="482400" cy="442440"/>
              </a:xfrm>
              <a:prstGeom prst="pi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50" name="AutoShape 50"/>
              <p:cNvSpPr/>
              <p:nvPr/>
            </p:nvSpPr>
            <p:spPr>
              <a:xfrm>
                <a:off x="4668480" y="6648120"/>
                <a:ext cx="93240" cy="2178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51" name="AutoShape 51"/>
              <p:cNvSpPr/>
              <p:nvPr/>
            </p:nvSpPr>
            <p:spPr>
              <a:xfrm>
                <a:off x="4768560" y="6653160"/>
                <a:ext cx="105840" cy="208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52" name="AutoShape 52"/>
              <p:cNvSpPr/>
              <p:nvPr/>
            </p:nvSpPr>
            <p:spPr>
              <a:xfrm>
                <a:off x="4881240" y="6648120"/>
                <a:ext cx="91440" cy="2178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53" name="Line 53"/>
              <p:cNvSpPr/>
              <p:nvPr/>
            </p:nvSpPr>
            <p:spPr>
              <a:xfrm>
                <a:off x="4920840" y="6694560"/>
                <a:ext cx="14040" cy="12564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54" name="AutoShape 54"/>
              <p:cNvSpPr/>
              <p:nvPr/>
            </p:nvSpPr>
            <p:spPr>
              <a:xfrm>
                <a:off x="4984200" y="6653160"/>
                <a:ext cx="96480" cy="208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55" name="Line 55"/>
              <p:cNvSpPr/>
              <p:nvPr/>
            </p:nvSpPr>
            <p:spPr>
              <a:xfrm>
                <a:off x="5027040" y="6696000"/>
                <a:ext cx="14040" cy="6192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grpSp>
          <p:nvGrpSpPr>
            <p:cNvPr id="856" name="Group 56"/>
            <p:cNvGrpSpPr/>
            <p:nvPr/>
          </p:nvGrpSpPr>
          <p:grpSpPr>
            <a:xfrm>
              <a:off x="5321160" y="5484600"/>
              <a:ext cx="5333760" cy="511920"/>
              <a:chOff x="5321160" y="5484600"/>
              <a:chExt cx="5333760" cy="511920"/>
            </a:xfrm>
          </p:grpSpPr>
          <p:sp>
            <p:nvSpPr>
              <p:cNvPr id="857" name="Rectangle 57"/>
              <p:cNvSpPr/>
              <p:nvPr/>
            </p:nvSpPr>
            <p:spPr>
              <a:xfrm>
                <a:off x="5321160" y="5484600"/>
                <a:ext cx="5333760" cy="511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58" name="Rectangle 58"/>
              <p:cNvSpPr/>
              <p:nvPr/>
            </p:nvSpPr>
            <p:spPr>
              <a:xfrm>
                <a:off x="5321160" y="5484600"/>
                <a:ext cx="5333760" cy="41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20160" tIns="12600" bIns="126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msy10"/>
                    <a:ea typeface="cmsy10"/>
                  </a:rPr>
                  <a:t>:</a:t>
                </a:r>
                <a:r>
                  <a:rPr b="1" lang="en-US" sz="2400" spc="-1" strike="noStrike">
                    <a:solidFill>
                      <a:srgbClr val="081d58"/>
                    </a:solidFill>
                    <a:latin typeface="Arial"/>
                    <a:ea typeface="Arial"/>
                  </a:rPr>
                  <a:t>Person </a:t>
                </a:r>
                <a:r>
                  <a:rPr b="0" lang="en-US" sz="2400" spc="-1" strike="noStrike">
                    <a:solidFill>
                      <a:srgbClr val="081d58"/>
                    </a:solidFill>
                    <a:latin typeface="cmsy10"/>
                    <a:ea typeface="cmsy10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lang="en-US" sz="2400" spc="-1" strike="noStrike">
                    <a:solidFill>
                      <a:srgbClr val="081d58"/>
                    </a:solidFill>
                    <a:latin typeface="Symbol"/>
                    <a:ea typeface="Symbol"/>
                  </a:rPr>
                  <a:t>∃</a:t>
                </a:r>
                <a:r>
                  <a:rPr b="1" lang="en-US" sz="2400" spc="-1" strike="noStrike">
                    <a:solidFill>
                      <a:srgbClr val="081d58"/>
                    </a:solidFill>
                    <a:latin typeface="Arial"/>
                    <a:ea typeface="Arial"/>
                  </a:rPr>
                  <a:t>hasParent.Person(x</a:t>
                </a:r>
                <a:r>
                  <a:rPr b="1" lang="en-US" sz="2400" spc="-1" strike="noStrike" baseline="-20000">
                    <a:solidFill>
                      <a:srgbClr val="081d58"/>
                    </a:solidFill>
                    <a:latin typeface="Arial"/>
                    <a:ea typeface="Arial"/>
                  </a:rPr>
                  <a:t>1</a:t>
                </a:r>
                <a:r>
                  <a:rPr b="1" lang="en-US" sz="2400" spc="-1" strike="noStrike">
                    <a:solidFill>
                      <a:srgbClr val="081d58"/>
                    </a:solidFill>
                    <a:latin typeface="Arial"/>
                    <a:ea typeface="Arial"/>
                  </a:rPr>
                  <a:t>)</a:t>
                </a:r>
                <a:endParaRPr b="0" lang="en-US" sz="24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grpSp>
          <p:nvGrpSpPr>
            <p:cNvPr id="859" name="Group 59"/>
            <p:cNvGrpSpPr/>
            <p:nvPr/>
          </p:nvGrpSpPr>
          <p:grpSpPr>
            <a:xfrm>
              <a:off x="10647000" y="5484600"/>
              <a:ext cx="926640" cy="329760"/>
              <a:chOff x="10647000" y="5484600"/>
              <a:chExt cx="926640" cy="329760"/>
            </a:xfrm>
          </p:grpSpPr>
          <p:sp>
            <p:nvSpPr>
              <p:cNvPr id="860" name="Line 60"/>
              <p:cNvSpPr/>
              <p:nvPr/>
            </p:nvSpPr>
            <p:spPr>
              <a:xfrm flipH="1">
                <a:off x="10647000" y="5687280"/>
                <a:ext cx="5094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61" name="Rectangle 61"/>
              <p:cNvSpPr/>
              <p:nvPr/>
            </p:nvSpPr>
            <p:spPr>
              <a:xfrm>
                <a:off x="11154960" y="5484600"/>
                <a:ext cx="41868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81d58"/>
                    </a:solidFill>
                    <a:latin typeface="cmsy10"/>
                    <a:ea typeface="cmsy10"/>
                  </a:rPr>
                  <a:t>v</a:t>
                </a:r>
                <a:endParaRPr b="0" lang="en-US" sz="24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</p:grpSp>
      <p:sp>
        <p:nvSpPr>
          <p:cNvPr id="862" name="Rectangle 62"/>
          <p:cNvSpPr/>
          <p:nvPr/>
        </p:nvSpPr>
        <p:spPr>
          <a:xfrm>
            <a:off x="6550200" y="6515280"/>
            <a:ext cx="5333760" cy="27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20160" tIns="12600" bIns="12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1d58"/>
                </a:solidFill>
                <a:latin typeface="Symbol"/>
                <a:ea typeface="Symbol"/>
              </a:rPr>
              <a:t>σ</a:t>
            </a:r>
            <a:r>
              <a:rPr b="1" lang="en-US" sz="2400" spc="-1" strike="noStrike">
                <a:solidFill>
                  <a:srgbClr val="081d58"/>
                </a:solidFill>
                <a:latin typeface="Arial"/>
                <a:ea typeface="Arial"/>
              </a:rPr>
              <a:t>(Bill) = { Person,</a:t>
            </a:r>
            <a:br>
              <a:rPr sz="2400"/>
            </a:br>
            <a:r>
              <a:rPr b="1" lang="en-US" sz="2400" spc="-1" strike="noStrike">
                <a:solidFill>
                  <a:srgbClr val="081d58"/>
                </a:solidFill>
                <a:latin typeface="Arial"/>
                <a:ea typeface="Arial"/>
              </a:rPr>
              <a:t>    Person </a:t>
            </a:r>
            <a:r>
              <a:rPr b="0" lang="en-US" sz="2400" spc="-1" strike="noStrike">
                <a:solidFill>
                  <a:srgbClr val="081d58"/>
                </a:solidFill>
                <a:latin typeface="cmsy10"/>
                <a:ea typeface="cmsy10"/>
              </a:rPr>
              <a:t>t</a:t>
            </a:r>
            <a:r>
              <a:rPr b="1" lang="en-US" sz="2400" spc="-1" strike="noStrike">
                <a:solidFill>
                  <a:srgbClr val="081d58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81d58"/>
                </a:solidFill>
                <a:latin typeface="Symbol"/>
                <a:ea typeface="Symbol"/>
              </a:rPr>
              <a:t>∃</a:t>
            </a:r>
            <a:r>
              <a:rPr b="1" lang="en-US" sz="2400" spc="-1" strike="noStrike">
                <a:solidFill>
                  <a:srgbClr val="081d58"/>
                </a:solidFill>
                <a:latin typeface="Arial"/>
                <a:ea typeface="Arial"/>
              </a:rPr>
              <a:t>hasParent.Person,</a:t>
            </a:r>
            <a:br>
              <a:rPr sz="2400"/>
            </a:br>
            <a:r>
              <a:rPr b="1" lang="en-US" sz="2400" spc="-1" strike="noStrike">
                <a:solidFill>
                  <a:srgbClr val="081d58"/>
                </a:solidFill>
                <a:latin typeface="Arial"/>
                <a:ea typeface="Arial"/>
              </a:rPr>
              <a:t>    </a:t>
            </a:r>
            <a:r>
              <a:rPr b="0" lang="en-US" sz="2400" spc="-1" strike="noStrike">
                <a:solidFill>
                  <a:srgbClr val="081d58"/>
                </a:solidFill>
                <a:latin typeface="Symbol"/>
                <a:ea typeface="Symbol"/>
              </a:rPr>
              <a:t>∃</a:t>
            </a:r>
            <a:r>
              <a:rPr b="1" lang="en-US" sz="2400" spc="-1" strike="noStrike">
                <a:solidFill>
                  <a:srgbClr val="081d58"/>
                </a:solidFill>
                <a:latin typeface="Arial"/>
                <a:ea typeface="Arial"/>
              </a:rPr>
              <a:t>hasParent.Person }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1d58"/>
                </a:solidFill>
                <a:latin typeface="Symbol"/>
                <a:ea typeface="Symbol"/>
              </a:rPr>
              <a:t>σ</a:t>
            </a:r>
            <a:r>
              <a:rPr b="1" lang="en-US" sz="2400" spc="-1" strike="noStrike">
                <a:solidFill>
                  <a:srgbClr val="081d58"/>
                </a:solidFill>
                <a:latin typeface="Arial"/>
                <a:ea typeface="Arial"/>
              </a:rPr>
              <a:t>(x</a:t>
            </a:r>
            <a:r>
              <a:rPr b="1" lang="en-US" sz="2400" spc="-1" strike="noStrike" baseline="-20000">
                <a:solidFill>
                  <a:srgbClr val="081d58"/>
                </a:solidFill>
                <a:latin typeface="Arial"/>
                <a:ea typeface="Arial"/>
              </a:rPr>
              <a:t>1</a:t>
            </a:r>
            <a:r>
              <a:rPr b="1" lang="en-US" sz="2400" spc="-1" strike="noStrike">
                <a:solidFill>
                  <a:srgbClr val="081d58"/>
                </a:solidFill>
                <a:latin typeface="Arial"/>
                <a:ea typeface="Arial"/>
              </a:rPr>
              <a:t>) = { Person,</a:t>
            </a:r>
            <a:br>
              <a:rPr sz="2400"/>
            </a:br>
            <a:r>
              <a:rPr b="1" lang="en-US" sz="2400" spc="-1" strike="noStrike">
                <a:solidFill>
                  <a:srgbClr val="081d58"/>
                </a:solidFill>
                <a:latin typeface="Arial"/>
                <a:ea typeface="Arial"/>
              </a:rPr>
              <a:t>    Person </a:t>
            </a:r>
            <a:r>
              <a:rPr b="0" lang="en-US" sz="2400" spc="-1" strike="noStrike">
                <a:solidFill>
                  <a:srgbClr val="081d58"/>
                </a:solidFill>
                <a:latin typeface="cmsy10"/>
                <a:ea typeface="cmsy10"/>
              </a:rPr>
              <a:t>t</a:t>
            </a:r>
            <a:r>
              <a:rPr b="1" lang="en-US" sz="2400" spc="-1" strike="noStrike">
                <a:solidFill>
                  <a:srgbClr val="081d58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81d58"/>
                </a:solidFill>
                <a:latin typeface="Symbol"/>
                <a:ea typeface="Symbol"/>
              </a:rPr>
              <a:t>∃</a:t>
            </a:r>
            <a:r>
              <a:rPr b="1" lang="en-US" sz="2400" spc="-1" strike="noStrike">
                <a:solidFill>
                  <a:srgbClr val="081d58"/>
                </a:solidFill>
                <a:latin typeface="Arial"/>
                <a:ea typeface="Arial"/>
              </a:rPr>
              <a:t>hasParent.Person,</a:t>
            </a:r>
            <a:br>
              <a:rPr sz="2400"/>
            </a:br>
            <a:r>
              <a:rPr b="1" lang="en-US" sz="2400" spc="-1" strike="noStrike">
                <a:solidFill>
                  <a:srgbClr val="081d58"/>
                </a:solidFill>
                <a:latin typeface="Arial"/>
                <a:ea typeface="Arial"/>
              </a:rPr>
              <a:t>    </a:t>
            </a:r>
            <a:r>
              <a:rPr b="0" lang="en-US" sz="2400" spc="-1" strike="noStrike">
                <a:solidFill>
                  <a:srgbClr val="081d58"/>
                </a:solidFill>
                <a:latin typeface="Symbol"/>
                <a:ea typeface="Symbol"/>
              </a:rPr>
              <a:t>∃</a:t>
            </a:r>
            <a:r>
              <a:rPr b="1" lang="en-US" sz="2400" spc="-1" strike="noStrike">
                <a:solidFill>
                  <a:srgbClr val="081d58"/>
                </a:solidFill>
                <a:latin typeface="Arial"/>
                <a:ea typeface="Arial"/>
              </a:rPr>
              <a:t>hasParent.Person }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1d58"/>
                </a:solidFill>
                <a:latin typeface="Symbol"/>
                <a:ea typeface="Symbol"/>
              </a:rPr>
              <a:t>σ</a:t>
            </a:r>
            <a:r>
              <a:rPr b="1" lang="en-US" sz="2400" spc="-1" strike="noStrike">
                <a:solidFill>
                  <a:srgbClr val="081d58"/>
                </a:solidFill>
                <a:latin typeface="Arial"/>
                <a:ea typeface="Arial"/>
              </a:rPr>
              <a:t>(x</a:t>
            </a:r>
            <a:r>
              <a:rPr b="1" lang="en-US" sz="2400" spc="-1" strike="noStrike" baseline="-20000">
                <a:solidFill>
                  <a:srgbClr val="081d58"/>
                </a:solidFill>
                <a:latin typeface="Arial"/>
                <a:ea typeface="Arial"/>
              </a:rPr>
              <a:t>1</a:t>
            </a:r>
            <a:r>
              <a:rPr b="1" lang="en-US" sz="2400" spc="-1" strike="noStrike">
                <a:solidFill>
                  <a:srgbClr val="081d58"/>
                </a:solidFill>
                <a:latin typeface="Arial"/>
                <a:ea typeface="Arial"/>
              </a:rPr>
              <a:t>) </a:t>
            </a:r>
            <a:r>
              <a:rPr b="0" lang="en-US" sz="2400" spc="-1" strike="noStrike">
                <a:solidFill>
                  <a:srgbClr val="081d58"/>
                </a:solidFill>
                <a:latin typeface="Symbol"/>
                <a:ea typeface="Symbol"/>
              </a:rPr>
              <a:t>⊆</a:t>
            </a:r>
            <a:r>
              <a:rPr b="1" lang="en-US" sz="2400" spc="-1" strike="noStrike">
                <a:solidFill>
                  <a:srgbClr val="081d58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81d58"/>
                </a:solidFill>
                <a:latin typeface="Symbol"/>
                <a:ea typeface="Symbol"/>
              </a:rPr>
              <a:t>σ</a:t>
            </a:r>
            <a:r>
              <a:rPr b="1" lang="en-US" sz="2400" spc="-1" strike="noStrike">
                <a:solidFill>
                  <a:srgbClr val="081d58"/>
                </a:solidFill>
                <a:latin typeface="Arial"/>
                <a:ea typeface="Arial"/>
              </a:rPr>
              <a:t>(Bill), so Bill blocks x</a:t>
            </a:r>
            <a:r>
              <a:rPr b="1" lang="en-US" sz="2400" spc="-1" strike="noStrike" baseline="-20000">
                <a:solidFill>
                  <a:srgbClr val="081d58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863" name="Group 63"/>
          <p:cNvGrpSpPr/>
          <p:nvPr/>
        </p:nvGrpSpPr>
        <p:grpSpPr>
          <a:xfrm>
            <a:off x="11773080" y="8866080"/>
            <a:ext cx="536400" cy="495360"/>
            <a:chOff x="11773080" y="8866080"/>
            <a:chExt cx="536400" cy="495360"/>
          </a:xfrm>
        </p:grpSpPr>
        <p:sp>
          <p:nvSpPr>
            <p:cNvPr id="864" name="AutoShape 64"/>
            <p:cNvSpPr/>
            <p:nvPr/>
          </p:nvSpPr>
          <p:spPr>
            <a:xfrm>
              <a:off x="11773080" y="8866080"/>
              <a:ext cx="536400" cy="495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865" name="AutoShape 65"/>
            <p:cNvSpPr/>
            <p:nvPr/>
          </p:nvSpPr>
          <p:spPr>
            <a:xfrm>
              <a:off x="11785680" y="8878680"/>
              <a:ext cx="509760" cy="470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866" name="AutoShape 66"/>
            <p:cNvSpPr/>
            <p:nvPr/>
          </p:nvSpPr>
          <p:spPr>
            <a:xfrm>
              <a:off x="11800080" y="8893080"/>
              <a:ext cx="482760" cy="4413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867" name="AutoShape 67"/>
            <p:cNvSpPr/>
            <p:nvPr/>
          </p:nvSpPr>
          <p:spPr>
            <a:xfrm>
              <a:off x="11838240" y="8989920"/>
              <a:ext cx="93600" cy="217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868" name="AutoShape 68"/>
            <p:cNvSpPr/>
            <p:nvPr/>
          </p:nvSpPr>
          <p:spPr>
            <a:xfrm>
              <a:off x="11938320" y="8994600"/>
              <a:ext cx="106200" cy="208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869" name="AutoShape 69"/>
            <p:cNvSpPr/>
            <p:nvPr/>
          </p:nvSpPr>
          <p:spPr>
            <a:xfrm>
              <a:off x="12051000" y="8989920"/>
              <a:ext cx="91800" cy="217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870" name="Line 70"/>
            <p:cNvSpPr/>
            <p:nvPr/>
          </p:nvSpPr>
          <p:spPr>
            <a:xfrm>
              <a:off x="12090600" y="9036000"/>
              <a:ext cx="14400" cy="1252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871" name="AutoShape 71"/>
            <p:cNvSpPr/>
            <p:nvPr/>
          </p:nvSpPr>
          <p:spPr>
            <a:xfrm>
              <a:off x="12153960" y="8994600"/>
              <a:ext cx="96840" cy="208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872" name="Line 72"/>
            <p:cNvSpPr/>
            <p:nvPr/>
          </p:nvSpPr>
          <p:spPr>
            <a:xfrm>
              <a:off x="12196800" y="9037440"/>
              <a:ext cx="14400" cy="619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873" name="Group 73"/>
          <p:cNvGrpSpPr/>
          <p:nvPr/>
        </p:nvGrpSpPr>
        <p:grpSpPr>
          <a:xfrm>
            <a:off x="504360" y="7226280"/>
            <a:ext cx="5232600" cy="2486520"/>
            <a:chOff x="504360" y="7226280"/>
            <a:chExt cx="5232600" cy="2486520"/>
          </a:xfrm>
        </p:grpSpPr>
        <p:sp>
          <p:nvSpPr>
            <p:cNvPr id="874" name="Rectangle 74"/>
            <p:cNvSpPr/>
            <p:nvPr/>
          </p:nvSpPr>
          <p:spPr>
            <a:xfrm>
              <a:off x="3200760" y="7226280"/>
              <a:ext cx="2536200" cy="67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57960" tIns="0" bIns="0" anchor="t">
              <a:spAutoFit/>
            </a:bodyPr>
            <a:p>
              <a:pPr marL="572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erson</a:t>
              </a:r>
              <a:endParaRPr b="0" lang="en-US" sz="2200" spc="-1" strike="noStrike">
                <a:solidFill>
                  <a:srgbClr val="000000"/>
                </a:solidFill>
                <a:latin typeface="Gill Sans"/>
              </a:endParaRPr>
            </a:p>
            <a:p>
              <a:pPr marL="572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∃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hasParent.Person</a:t>
              </a:r>
              <a:endParaRPr b="0" lang="en-US" sz="2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875" name="AutoShape 75"/>
            <p:cNvSpPr/>
            <p:nvPr/>
          </p:nvSpPr>
          <p:spPr>
            <a:xfrm>
              <a:off x="3772440" y="8250120"/>
              <a:ext cx="1565640" cy="103500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876" name="Rectangle 76"/>
            <p:cNvSpPr/>
            <p:nvPr/>
          </p:nvSpPr>
          <p:spPr>
            <a:xfrm>
              <a:off x="3880800" y="9377280"/>
              <a:ext cx="1389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57960" tIns="0" bIns="0" anchor="t">
              <a:spAutoFit/>
            </a:bodyPr>
            <a:p>
              <a:pPr marL="572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hasParent</a:t>
              </a:r>
              <a:endParaRPr b="0" lang="en-US" sz="2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877" name="Oval 77"/>
            <p:cNvSpPr/>
            <p:nvPr/>
          </p:nvSpPr>
          <p:spPr>
            <a:xfrm>
              <a:off x="1840320" y="8153280"/>
              <a:ext cx="206280" cy="2048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878" name="Rectangle 78"/>
            <p:cNvSpPr/>
            <p:nvPr/>
          </p:nvSpPr>
          <p:spPr>
            <a:xfrm>
              <a:off x="504360" y="7226280"/>
              <a:ext cx="2536200" cy="67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57960" tIns="0" bIns="0" anchor="t">
              <a:spAutoFit/>
            </a:bodyPr>
            <a:p>
              <a:pPr marL="572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erson</a:t>
              </a:r>
              <a:endParaRPr b="0" lang="en-US" sz="2200" spc="-1" strike="noStrike">
                <a:solidFill>
                  <a:srgbClr val="000000"/>
                </a:solidFill>
                <a:latin typeface="Gill Sans"/>
              </a:endParaRPr>
            </a:p>
            <a:p>
              <a:pPr marL="572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∃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hasParent.Person</a:t>
              </a:r>
              <a:endParaRPr b="0" lang="en-US" sz="2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879" name="Oval 79"/>
            <p:cNvSpPr/>
            <p:nvPr/>
          </p:nvSpPr>
          <p:spPr>
            <a:xfrm>
              <a:off x="4401360" y="8153280"/>
              <a:ext cx="204840" cy="2048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grpSp>
          <p:nvGrpSpPr>
            <p:cNvPr id="880" name="Group 80"/>
            <p:cNvGrpSpPr/>
            <p:nvPr/>
          </p:nvGrpSpPr>
          <p:grpSpPr>
            <a:xfrm>
              <a:off x="2046600" y="8250120"/>
              <a:ext cx="2354400" cy="335520"/>
              <a:chOff x="2046600" y="8250120"/>
              <a:chExt cx="2354400" cy="335520"/>
            </a:xfrm>
          </p:grpSpPr>
          <p:sp>
            <p:nvSpPr>
              <p:cNvPr id="881" name="Line 81"/>
              <p:cNvSpPr/>
              <p:nvPr/>
            </p:nvSpPr>
            <p:spPr>
              <a:xfrm>
                <a:off x="2046600" y="8250120"/>
                <a:ext cx="23544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82" name="Rectangle 82"/>
              <p:cNvSpPr/>
              <p:nvPr/>
            </p:nvSpPr>
            <p:spPr>
              <a:xfrm>
                <a:off x="2446920" y="8250120"/>
                <a:ext cx="138996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57960" tIns="0" bIns="0" anchor="t">
                <a:spAutoFit/>
              </a:bodyPr>
              <a:p>
                <a:pPr marL="5724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hasParent</a:t>
                </a:r>
                <a:endParaRPr b="0" lang="en-US" sz="2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sp>
          <p:nvSpPr>
            <p:cNvPr id="883" name="Rectangle 83"/>
            <p:cNvSpPr/>
            <p:nvPr/>
          </p:nvSpPr>
          <p:spPr>
            <a:xfrm>
              <a:off x="1684800" y="8351640"/>
              <a:ext cx="489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57960" tIns="0" bIns="0" anchor="t">
              <a:spAutoFit/>
            </a:bodyPr>
            <a:p>
              <a:pPr marL="572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Bill</a:t>
              </a:r>
              <a:endParaRPr b="0" lang="en-US" sz="2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884" name="Rectangle 84"/>
            <p:cNvSpPr/>
            <p:nvPr/>
          </p:nvSpPr>
          <p:spPr>
            <a:xfrm>
              <a:off x="5063040" y="8045280"/>
              <a:ext cx="34596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57960" tIns="0" bIns="0" anchor="t">
              <a:spAutoFit/>
            </a:bodyPr>
            <a:p>
              <a:pPr marL="572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x</a:t>
              </a:r>
              <a:r>
                <a:rPr b="0" lang="en-US" sz="2200" spc="-1" strike="noStrike" baseline="-20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885" name="Rectangle 85"/>
          <p:cNvSpPr/>
          <p:nvPr/>
        </p:nvSpPr>
        <p:spPr>
          <a:xfrm>
            <a:off x="5504040" y="1900080"/>
            <a:ext cx="11798280" cy="9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t">
            <a:noAutofit/>
          </a:bodyPr>
          <a:p>
            <a:pPr marL="382680" indent="-343080">
              <a:lnSpc>
                <a:spcPct val="100000"/>
              </a:lnSpc>
              <a:spcBef>
                <a:spcPts val="58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inziges Axiom: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erson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  <a:ea typeface="cmsy10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asParent.Person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82680" indent="-343080">
              <a:lnSpc>
                <a:spcPct val="100000"/>
              </a:lnSpc>
              <a:spcBef>
                <a:spcPts val="5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bzuleiten: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erson(Bill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cover dir="r"/>
  </p:transition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1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6" dur="5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500"/>
                            </p:stCondLst>
                            <p:childTnLst>
                              <p:par>
                                <p:cTn id="378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4" dur="500"/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FBE81-A0FD-47BA-8948-D086BC7B2214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Tableau - Blocking - Definitio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977760" y="2387160"/>
            <a:ext cx="1104912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7081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ie Auswahl von (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9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R.C)(a) im Tableauzweig A ist </a:t>
            </a:r>
            <a:r>
              <a:rPr b="0" i="1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blockiert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, falls es ein Individuum b gibt, so dass 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708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{C | C(a)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2 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A}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µ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{C | C(b)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2 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A} ist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708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708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Zwei Möglichkeiten der Terminierung: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708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1. Abschluss des Tableaus.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ann Wissensbasis unerfüllbar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708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2. Keine ungeblockte Auswahl führt zu Erweiterung.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ann Wissensbasis erfüllbar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DE7E6-7C54-4FAA-89CF-D06C8ED5DE3A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Tableau für OWL DL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977760" y="2387160"/>
            <a:ext cx="1104912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ie Grundidee ist dieselbe!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Kompliziertere Blockingregeln müssen verwendet werden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Schlechte Unterstützung von Instanzgenerierung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Tableau mit Blocking ist 2NExptime!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!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schlechter als nötig!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DACBC-C125-4888-93AB-CC8EE55CEBDD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Tableau-Beweiser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977760" y="2214360"/>
            <a:ext cx="11049120" cy="75387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382680" indent="-34308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Fact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1"/>
              </a:rPr>
              <a:t>http://www.cs.man.ac.uk/~horrocks/FaCT/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SHIQ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Fact++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2"/>
              </a:rPr>
              <a:t>http://owl.man.ac.uk/factplusplus/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SHOIQ(D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Pellet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3"/>
              </a:rPr>
              <a:t>http://www.mindswap.org/2003/pellet/index.shtml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SHOIN(D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RacerPro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4"/>
              </a:rPr>
              <a:t>http://www.sts.tu-harburg.de/~r.f.moeller/racer/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SHIQ(D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A48EE-9D65-4003-AD88-918B186F75EC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DLs - Aufbau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866880" y="2350800"/>
            <a:ext cx="11980800" cy="774540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Ls sind eine </a:t>
            </a:r>
            <a:r>
              <a:rPr b="0" lang="en-US" sz="2800" spc="-1" strike="noStrike">
                <a:solidFill>
                  <a:srgbClr val="006600"/>
                </a:solidFill>
                <a:latin typeface="Arial"/>
                <a:ea typeface="Arial"/>
              </a:rPr>
              <a:t>Famili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logikbasierter Formalismen zur Wissensrepräsentation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pezielle Sprachen v.a. charakterisiert durch: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onstruktoren für komplexe Klassen und Rollen aus einfacheren. 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enge von Axiomen um Fakten über Klassen, Rollen und Individuen auszudrücken.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AL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t die kleinste DL, die aussagenlogisch abgeschlossen ist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onjunktion, Disjunktion, Negation sind Konstruktoren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geschrieben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Quantoren schränken Rollenbereiche ein, z.B.: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n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9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asChild.Female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u 9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asChild.Male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u 8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asChild.(Rich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Happy)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50B86-1545-4CD6-9311-F1687AF0B542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DLs - weitere Sprachmittel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977760" y="2387160"/>
            <a:ext cx="1104912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ndere Konstruktoren sind z.B.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umber restrictions (Kardinalitätseinschränkungen) für Rollen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3 hasChild,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hasMother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qualified number restrictions (klassenspezifische Kardinalitäts-einschränkungen) für Rollen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2 hasChild.Female,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 hasParent.Male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bgeschlossene Klassen (Definition durch Aufzählung):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{Italy, France, Spain}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onkrete Bereiche (Datentypen)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hasAge.(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21)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verse Rollen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asChild</a:t>
            </a:r>
            <a:r>
              <a:rPr b="1" lang="en-US" sz="3800" spc="-1" strike="noStrike" baseline="31000">
                <a:solidFill>
                  <a:srgbClr val="000000"/>
                </a:solidFill>
                <a:latin typeface="Arial"/>
                <a:ea typeface="Arial"/>
              </a:rPr>
              <a:t>–</a:t>
            </a:r>
            <a:endParaRPr b="0" lang="en-US" sz="38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ransitive Rollen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rans(hasAncestor)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ollenverknüpfung:              Sibling </a:t>
            </a:r>
            <a:r>
              <a:rPr b="0" lang="en-US" sz="2800" spc="-1" strike="noStrike" baseline="28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Parent 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C9CE0-216F-47FB-979A-1B998E04718A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Beschreibungslogik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cc0006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6"/>
                </a:solidFill>
                <a:latin typeface="Lucida Calligraphy"/>
                <a:ea typeface="Lucida Calligraphy"/>
              </a:rPr>
              <a:t>ALC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WL als </a:t>
            </a:r>
            <a:r>
              <a:rPr b="0" lang="en-US" sz="42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SHOIN</a:t>
            </a: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(D)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Inferenzprobleme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Tableau-Beweiser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F06C7-8F25-4FEC-B04C-1FBB21C3E74E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LC - Grundbausteine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977760" y="2387160"/>
            <a:ext cx="1104912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3430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Grundbausteine: 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896760" indent="-285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Klassennamen (auch als Konzepte bezeichnet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896760" indent="-285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Rollennamen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896760" indent="-285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Individuennamen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8967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Professor(RudiStuder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896760" indent="-285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Individuum RudiStuder ist in Klasse Professor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Zugehoerigkeit(RudiStuder,AIFB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896760" indent="-285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RudiStuder ist dem AIFB zugehörig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28" name="Rectangle 3"/>
          <p:cNvSpPr/>
          <p:nvPr/>
        </p:nvSpPr>
        <p:spPr>
          <a:xfrm>
            <a:off x="254160" y="5708520"/>
            <a:ext cx="110743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ctr">
            <a:noAutofit/>
          </a:bodyPr>
          <a:p>
            <a:pPr marL="1114560" indent="-406440">
              <a:lnSpc>
                <a:spcPct val="100000"/>
              </a:lnSpc>
              <a:spcBef>
                <a:spcPts val="788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Angabe von Klassen- und Rolleninstanzen: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marL="1114560" indent="-40644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>
    <p:cover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7T14:42:51Z</dcterms:created>
  <dc:creator/>
  <dc:description/>
  <cp:keywords/>
  <dc:language>en-US</dc:language>
  <cp:lastModifiedBy>Sebastian Rudolph</cp:lastModifiedBy>
  <dcterms:modified xsi:type="dcterms:W3CDTF">2009-12-10T00:28:07Z</dcterms:modified>
  <cp:revision>10</cp:revision>
  <dc:subject/>
  <dc:title>Grundlagen Semantic Web</dc:title>
</cp:coreProperties>
</file>